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13A-C9B3-42C3-ADAA-796A7980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01F-7621-4EFC-A5EF-038F7D06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BE65D-9B8D-409A-BA25-3EC0B932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4C87D-BC23-4403-9406-939CE4B5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175F4-A9DD-49C4-8838-777233A3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27A5E-6842-45A9-8C23-746AFA6F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400D2-B467-4B78-A048-B2D47C4B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57EF1-DB19-4266-A661-2FB68CCB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EAE71-DDD9-4BB2-AE47-171AF9BF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EC2E1-D33A-47E4-BE80-16A0C35E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965A6-5BCB-4D0F-89F5-D1C300FE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1C111-94B5-4551-8C90-3BF296B6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D94-9D6D-4104-9AF9-DEFC3817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F08AD-6A81-4E74-B922-38FBD525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4FD8E-E7A9-4348-83F1-696BC6EE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DCDC1-6522-4F65-AC9F-43C2111D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CC7E1-81DB-41A3-A26D-E24CAA15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11979-FB4A-4721-94E2-AF0EA76F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5DFF6-D794-4923-91CB-F8025575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F9857-7573-447F-86BB-FAC10514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80CB6-9341-4468-96C4-5A6E8D30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48D97-E480-4AD7-8672-D0E85D74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A5A84-EE13-46D2-BB5C-AAC2802D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8BC-3726-485C-9D8C-5E8A8967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996E5-F11B-44AA-8ACA-221CE9B2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8C31F-B9F7-4BF6-9435-EA91D42A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DD95C-6618-409C-8256-2FCA7E5D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01950-234A-4CC0-A1AE-25B81550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45227-67EE-4712-A0EE-B3719EAA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08C57-285D-4791-A297-5CF49BA3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3F2D7-20DE-4C04-8F93-EDB60B1F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6E0FF-182A-4176-944A-ECD6E54E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3654F-A1C2-4C2C-985D-C36FE65A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3C773-BD0D-45C6-9EA7-DBC511CC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1286-A71A-45AA-8893-A7293179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08A5E-5EDA-4A8C-AD72-EC0DB77B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EB708-9571-46EB-96A3-4D330A71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A3169-8650-47F8-8612-09A070B8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02026-952D-418D-9F5F-DC0F7B73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E1BE2-BB6F-4135-A5C6-5D405FC3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A505A-02AA-41E8-9AC9-EA9F34EF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A73DE-2609-4B06-AD0D-45DD8121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9D7DC-B87E-4086-88ED-D79D2267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18DB5-4664-44C2-BF58-13F0E348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28F98-7180-40BC-BCBD-2DABCF81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F8B3-B9F5-4B9A-8E89-C9042BA2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D3C57-3280-4595-8A1C-0D245D88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6FE57-0AFD-4E02-9474-049A85F7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FD98E-440C-4EEF-AC63-2C0ABE23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B1A40-9949-44D8-B442-23AB9433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A6E8E-21E5-4FFE-8F4B-10BAC8B5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4323-7C25-4C77-ADAA-E94F03DC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776D-472A-42A0-B65D-05C3D83B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403A-98AB-40C6-94AE-DCC262DB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5ABD-9D96-4E43-9B49-67A3A30E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1407-515C-4774-8C1E-B648DC6A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487-5539-46EF-BF8F-9E67E649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64AE-8E5E-403C-8863-6431F444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F1C2-6D0F-46C1-A073-50C775CC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3946-ECB4-4BBB-A62C-2B21C023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C35F-0A2D-4FD7-B8DD-67604E66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0DDC-28EE-43B5-A14D-0B31D058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55457-B536-46CC-ACAF-08233530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976F-A534-430A-8899-75B392D5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FAEF4-0F3F-48D7-8BFD-41475BE1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5781-F2CF-4FEB-9754-DBA86D67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E172C-EBC2-47A4-8FC0-3600CB29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8C5-21CD-499A-AE3B-AE598D89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DA08-B83A-4D7F-BA6B-96427708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4373-7BF0-4EA1-95DE-91BA9C69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30C1-1978-44D2-94FD-DB5EF0A4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A7F71-7DEB-4BAC-ABFE-EDDFEFFD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CB120-B116-4836-806A-FF4C1927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E04B-1475-42EC-8E2E-8DDC58CB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E4778-A7BB-4A0A-8F53-F30FF348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E4941-F3BD-4D22-9C90-FEA336B5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E1E11-51ED-44FF-B8B4-3F82EEDD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A306F-405C-4DD2-A2C0-4ABD9733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AC9-D58F-4064-BA44-3E4752BB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21091-B8AE-42B4-B903-03D270BA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DEB98-52DB-4FB6-A13C-21A181D2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B9860-550C-4655-A668-FF506282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7C7A2-2906-4CCF-B18C-B20A611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A7590-B912-4370-8929-E881BD9E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BE0A4-78F8-4D19-90B0-0F31912B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7C410-94F8-4EE8-90C4-D2852D75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25172-CC94-4F2F-9F11-9BDB4761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4FA62-28FA-4DE7-ADE6-E7E56F12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02F54-DDEE-49E5-984F-24F829DB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C8E-6131-41E9-9461-F6282114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0D705-20AF-429C-9E60-F4243E11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83AE1-7F7D-4F32-AB35-326B69AA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C55A6-A7FE-4B99-AAB5-22D92077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A5399-92A2-4C2B-8571-2E7220EF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62C0A-F7BE-4B81-AFBC-0AA5AD4E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AA909-0879-4DFF-BF84-0D9DD37B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944FD-A478-4B71-A31D-EB7BF915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E402-39F2-49EC-9D93-82778EA9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87749-DF6E-4213-A945-E7FC878E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A9720-2CCC-4001-BBE9-AB427521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03E7-9C89-4F6C-998F-9B95D596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3A400-F3BB-46E4-9C9D-4B111B40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539ED-2C3A-4A30-9136-8A502BEA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C85BD-9407-4DFB-B487-F8B5B9F5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7F89A-6656-41D7-A78A-BA5177A9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A9887-B516-41BB-96A1-E6B234FB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FBA4F-D367-4C21-AC2C-4B003BD8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AF809-A959-48F9-B4E3-8B3E34F5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2A5C1-548E-4DF4-8C3A-B39F73B2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7ED6B-98B8-42BD-A915-B48DF3EB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3E16F-EDAF-4793-A592-F0AE019D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5B8-3A25-4652-A788-A051AD70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A2295-41CC-4847-B8FE-45330CD9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7E752-47A9-4D44-9AA0-F7C9697E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5FE68-F1A6-46CC-B5E7-CF1A4B07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222FE-E238-4046-91A8-3994905B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42DB4-F2A6-46AC-A24B-255CF73F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B9EFE-75F0-4A30-BAC6-8AFE2DA3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E0AF8-3503-4456-9112-466B1F68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FE2FF-AF2A-41FA-B961-4E63FFF9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0FFC5-4D61-4B7B-A234-A910BA3A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26C9F-AF10-4C0D-A9E1-3A1CD915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7AA-8B71-4C38-ACBC-6537EFC5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3FE43-893D-471C-9AAD-77E7169E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1FF17-F52C-4391-801A-2F37906B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0A995-C224-4F71-B4BA-37076453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2298F-7166-4D32-BDBC-C0AB3425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F7112-0D96-40BF-82E3-AFE12316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6FF5B-A37F-46D9-873A-7385D2AF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2CE4A-3672-43D3-A0F5-8489F063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22735-2BB1-4277-905C-CED3B922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1419C-1D48-4241-A10E-4EB11B14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DCA14-9E27-470B-9E5D-457B8C62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BF4-6EA9-40E3-A2EC-06456FFA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8E7A4-0A7D-4BE8-B2A6-656AB4D8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8A871-6A3C-4FBB-84A1-DF92DE4A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48520-E034-48E1-99A3-AF4B4E24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DE21D-C45D-4EB8-A763-0B21764E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CC7E7-67AF-4433-B0A9-CADA1D9D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D8818-8175-461F-A5F2-8533E101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95925-99C4-4B73-BF13-A9808691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1D854-E34B-4AE7-A65C-1FA74614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19556-82F1-4855-BE46-20B9D52E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BF067-26C9-48B6-A63F-44B5E54A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58A4-FDF6-438E-8FAC-3868C02789E3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BB48-FC36-4343-A217-AAED6D9F3491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4999-C75C-4C51-843A-6C76FFCB8CCD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A15E-28BB-4257-BAD0-4085628ECF30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2067-8CD2-430C-89F8-619E3699905B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3C30-259E-46F4-8401-BE93F72F8D92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19F4-9865-4663-92B6-2AF0E00DCEE9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0690-8CB6-42EF-ADBB-F0DD1A41979C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6EF1-B36A-4572-A108-6D47F64D1AB7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B39C-B3D2-4AE2-A43C-9FC243723587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AD41-C1E6-4F32-B1C0-53E8EA9FC181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A123-C4AC-4D05-B856-E0DCE6194B8B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2 Rectángulo" descr=""/>
          <p:cNvPicPr/>
          <p:nvPr/>
        </p:nvPicPr>
        <p:blipFill>
          <a:blip r:embed="rId1"/>
          <a:stretch/>
        </p:blipFill>
        <p:spPr>
          <a:xfrm>
            <a:off x="1212840" y="1487520"/>
            <a:ext cx="7004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785880" y="5000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Alveolar ri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Alveolar articulation"/>
          <p:cNvPicPr/>
          <p:nvPr/>
        </p:nvPicPr>
        <p:blipFill>
          <a:blip r:embed="rId1"/>
          <a:stretch/>
        </p:blipFill>
        <p:spPr>
          <a:xfrm>
            <a:off x="1143000" y="1500120"/>
            <a:ext cx="4429080" cy="4286160"/>
          </a:xfrm>
          <a:prstGeom prst="rect">
            <a:avLst/>
          </a:prstGeom>
          <a:ln w="0">
            <a:noFill/>
          </a:ln>
        </p:spPr>
      </p:pic>
      <p:sp>
        <p:nvSpPr>
          <p:cNvPr id="543" name="Oval 10"/>
          <p:cNvSpPr/>
          <p:nvPr/>
        </p:nvSpPr>
        <p:spPr>
          <a:xfrm rot="3173400">
            <a:off x="2539440" y="2675160"/>
            <a:ext cx="644400" cy="7779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5 CuadroTexto"/>
          <p:cNvSpPr/>
          <p:nvPr/>
        </p:nvSpPr>
        <p:spPr>
          <a:xfrm>
            <a:off x="5857920" y="1785960"/>
            <a:ext cx="2928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situated between the teeth and the hard pala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6 CuadroTexto"/>
          <p:cNvSpPr/>
          <p:nvPr/>
        </p:nvSpPr>
        <p:spPr>
          <a:xfrm>
            <a:off x="5857920" y="3571920"/>
            <a:ext cx="2643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covered with little rid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5786280" y="5357880"/>
            <a:ext cx="28083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d/, /t/,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/n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Dental articulation"/>
          <p:cNvPicPr/>
          <p:nvPr/>
        </p:nvPicPr>
        <p:blipFill>
          <a:blip r:embed="rId1"/>
          <a:stretch/>
        </p:blipFill>
        <p:spPr>
          <a:xfrm>
            <a:off x="4286160" y="1571760"/>
            <a:ext cx="4071960" cy="36432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2"/>
          <p:cNvSpPr/>
          <p:nvPr/>
        </p:nvSpPr>
        <p:spPr>
          <a:xfrm>
            <a:off x="714240" y="500040"/>
            <a:ext cx="7429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tee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3 CuadroTexto"/>
          <p:cNvSpPr/>
          <p:nvPr/>
        </p:nvSpPr>
        <p:spPr>
          <a:xfrm>
            <a:off x="500040" y="1643040"/>
            <a:ext cx="3357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located at the front of the mouth immediately behind the l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5 CuadroTexto"/>
          <p:cNvSpPr/>
          <p:nvPr/>
        </p:nvSpPr>
        <p:spPr>
          <a:xfrm>
            <a:off x="571680" y="3786120"/>
            <a:ext cx="3500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For many speech sounds the tongue is in contact with the upper teet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4143240" y="535788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, /ð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785880" y="7142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li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Bilabial articulation"/>
          <p:cNvPicPr/>
          <p:nvPr/>
        </p:nvPicPr>
        <p:blipFill>
          <a:blip r:embed="rId1"/>
          <a:stretch/>
        </p:blipFill>
        <p:spPr>
          <a:xfrm>
            <a:off x="5000760" y="1857240"/>
            <a:ext cx="3376440" cy="3429000"/>
          </a:xfrm>
          <a:prstGeom prst="rect">
            <a:avLst/>
          </a:prstGeom>
          <a:ln w="0">
            <a:noFill/>
          </a:ln>
        </p:spPr>
      </p:pic>
      <p:sp>
        <p:nvSpPr>
          <p:cNvPr id="554" name="5 CuadroTexto"/>
          <p:cNvSpPr/>
          <p:nvPr/>
        </p:nvSpPr>
        <p:spPr>
          <a:xfrm>
            <a:off x="1143000" y="1928880"/>
            <a:ext cx="36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very important in spee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6 CuadroTexto"/>
          <p:cNvSpPr/>
          <p:nvPr/>
        </p:nvSpPr>
        <p:spPr>
          <a:xfrm>
            <a:off x="1143000" y="3000240"/>
            <a:ext cx="3571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 can be pressed togethe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428840" y="428616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b/, /p/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m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Labiodental articulation"/>
          <p:cNvPicPr/>
          <p:nvPr/>
        </p:nvPicPr>
        <p:blipFill>
          <a:blip r:embed="rId1"/>
          <a:stretch/>
        </p:blipFill>
        <p:spPr>
          <a:xfrm>
            <a:off x="5143680" y="857160"/>
            <a:ext cx="3163680" cy="4143600"/>
          </a:xfrm>
          <a:prstGeom prst="rect">
            <a:avLst/>
          </a:prstGeom>
          <a:ln w="0">
            <a:noFill/>
          </a:ln>
        </p:spPr>
      </p:pic>
      <p:sp>
        <p:nvSpPr>
          <p:cNvPr id="558" name="2 CuadroTexto"/>
          <p:cNvSpPr/>
          <p:nvPr/>
        </p:nvSpPr>
        <p:spPr>
          <a:xfrm>
            <a:off x="714240" y="1143000"/>
            <a:ext cx="3786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can be brought into contact with the tee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1214280" y="3286080"/>
            <a:ext cx="26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/f/, /v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1 Imagen" descr=""/>
          <p:cNvPicPr/>
          <p:nvPr/>
        </p:nvPicPr>
        <p:blipFill>
          <a:blip r:embed="rId1"/>
          <a:stretch/>
        </p:blipFill>
        <p:spPr>
          <a:xfrm>
            <a:off x="2052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1 Rectángulo" descr=""/>
          <p:cNvPicPr/>
          <p:nvPr/>
        </p:nvPicPr>
        <p:blipFill>
          <a:blip r:embed="rId1"/>
          <a:stretch/>
        </p:blipFill>
        <p:spPr>
          <a:xfrm>
            <a:off x="1500120" y="517680"/>
            <a:ext cx="6070680" cy="1847520"/>
          </a:xfrm>
          <a:prstGeom prst="rect">
            <a:avLst/>
          </a:prstGeom>
          <a:ln w="0">
            <a:noFill/>
          </a:ln>
        </p:spPr>
      </p:pic>
      <p:sp>
        <p:nvSpPr>
          <p:cNvPr id="507" name="2 Rectángulo"/>
          <p:cNvSpPr/>
          <p:nvPr/>
        </p:nvSpPr>
        <p:spPr>
          <a:xfrm>
            <a:off x="1285920" y="2857680"/>
            <a:ext cx="6215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production of any speech sound involves the movement of an air stre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3 Rectángulo"/>
          <p:cNvSpPr/>
          <p:nvPr/>
        </p:nvSpPr>
        <p:spPr>
          <a:xfrm>
            <a:off x="1357200" y="4357800"/>
            <a:ext cx="6286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Constantia"/>
              </a:rPr>
              <a:t>Most speech sounds are produced by pushing the air out of the lungs through the mouth (oral) and sometimes through the nose (nas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71424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Arial"/>
              </a:rPr>
              <a:t>Vocal 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714240" y="1214280"/>
            <a:ext cx="8001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nstantia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he airway used in the production of speech, especially the passage above the larynx, including the pharynx, mouth, and nasal ca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Vocal tract mesh&#10;embedded with MRI"/>
          <p:cNvPicPr/>
          <p:nvPr/>
        </p:nvPicPr>
        <p:blipFill>
          <a:blip r:embed="rId1"/>
          <a:stretch/>
        </p:blipFill>
        <p:spPr>
          <a:xfrm>
            <a:off x="1428840" y="2786040"/>
            <a:ext cx="2305080" cy="35272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Tract mesh for&#10;vowel e"/>
          <p:cNvPicPr/>
          <p:nvPr/>
        </p:nvPicPr>
        <p:blipFill>
          <a:blip r:embed="rId2"/>
          <a:stretch/>
        </p:blipFill>
        <p:spPr>
          <a:xfrm>
            <a:off x="4500720" y="32148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28584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ulators are divided into 2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111640" cy="4392720"/>
          </a:xfrm>
          <a:prstGeom prst="rect">
            <a:avLst/>
          </a:prstGeom>
          <a:ln w="0">
            <a:noFill/>
          </a:ln>
        </p:spPr>
      </p:pic>
      <p:sp>
        <p:nvSpPr>
          <p:cNvPr id="515" name="Freeform 12"/>
          <p:cNvSpPr/>
          <p:nvPr/>
        </p:nvSpPr>
        <p:spPr>
          <a:xfrm>
            <a:off x="1635120" y="2639880"/>
            <a:ext cx="2778120" cy="1095480"/>
          </a:xfrm>
          <a:custGeom>
            <a:avLst/>
            <a:gdLst>
              <a:gd name="textAreaLeft" fmla="*/ 0 w 2778120"/>
              <a:gd name="textAreaRight" fmla="*/ 2778480 w 277812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2410" h="1158">
                <a:moveTo>
                  <a:pt x="27" y="783"/>
                </a:moveTo>
                <a:cubicBezTo>
                  <a:pt x="176" y="768"/>
                  <a:pt x="327" y="741"/>
                  <a:pt x="470" y="695"/>
                </a:cubicBezTo>
                <a:cubicBezTo>
                  <a:pt x="538" y="650"/>
                  <a:pt x="615" y="632"/>
                  <a:pt x="692" y="606"/>
                </a:cubicBezTo>
                <a:cubicBezTo>
                  <a:pt x="709" y="600"/>
                  <a:pt x="720" y="584"/>
                  <a:pt x="736" y="576"/>
                </a:cubicBezTo>
                <a:cubicBezTo>
                  <a:pt x="750" y="569"/>
                  <a:pt x="766" y="566"/>
                  <a:pt x="781" y="562"/>
                </a:cubicBezTo>
                <a:cubicBezTo>
                  <a:pt x="936" y="519"/>
                  <a:pt x="1095" y="505"/>
                  <a:pt x="1253" y="473"/>
                </a:cubicBezTo>
                <a:cubicBezTo>
                  <a:pt x="1366" y="492"/>
                  <a:pt x="1480" y="496"/>
                  <a:pt x="1593" y="517"/>
                </a:cubicBezTo>
                <a:cubicBezTo>
                  <a:pt x="1608" y="527"/>
                  <a:pt x="1621" y="540"/>
                  <a:pt x="1637" y="547"/>
                </a:cubicBezTo>
                <a:cubicBezTo>
                  <a:pt x="1666" y="560"/>
                  <a:pt x="1726" y="576"/>
                  <a:pt x="1726" y="576"/>
                </a:cubicBezTo>
                <a:cubicBezTo>
                  <a:pt x="1809" y="705"/>
                  <a:pt x="1698" y="554"/>
                  <a:pt x="1800" y="635"/>
                </a:cubicBezTo>
                <a:cubicBezTo>
                  <a:pt x="1814" y="646"/>
                  <a:pt x="1816" y="667"/>
                  <a:pt x="1829" y="680"/>
                </a:cubicBezTo>
                <a:cubicBezTo>
                  <a:pt x="1841" y="693"/>
                  <a:pt x="1858" y="699"/>
                  <a:pt x="1873" y="709"/>
                </a:cubicBezTo>
                <a:cubicBezTo>
                  <a:pt x="1943" y="813"/>
                  <a:pt x="1903" y="778"/>
                  <a:pt x="1977" y="827"/>
                </a:cubicBezTo>
                <a:cubicBezTo>
                  <a:pt x="2046" y="931"/>
                  <a:pt x="2007" y="896"/>
                  <a:pt x="2080" y="946"/>
                </a:cubicBezTo>
                <a:cubicBezTo>
                  <a:pt x="2100" y="1006"/>
                  <a:pt x="2124" y="1029"/>
                  <a:pt x="2184" y="1049"/>
                </a:cubicBezTo>
                <a:cubicBezTo>
                  <a:pt x="2202" y="1107"/>
                  <a:pt x="2203" y="1158"/>
                  <a:pt x="2317" y="1079"/>
                </a:cubicBezTo>
                <a:cubicBezTo>
                  <a:pt x="2343" y="1061"/>
                  <a:pt x="2336" y="1020"/>
                  <a:pt x="2346" y="990"/>
                </a:cubicBezTo>
                <a:cubicBezTo>
                  <a:pt x="2351" y="973"/>
                  <a:pt x="2366" y="961"/>
                  <a:pt x="2376" y="946"/>
                </a:cubicBezTo>
                <a:cubicBezTo>
                  <a:pt x="2410" y="836"/>
                  <a:pt x="2410" y="734"/>
                  <a:pt x="2376" y="621"/>
                </a:cubicBezTo>
                <a:cubicBezTo>
                  <a:pt x="2367" y="592"/>
                  <a:pt x="2348" y="515"/>
                  <a:pt x="2317" y="488"/>
                </a:cubicBezTo>
                <a:cubicBezTo>
                  <a:pt x="2277" y="453"/>
                  <a:pt x="2228" y="429"/>
                  <a:pt x="2184" y="399"/>
                </a:cubicBezTo>
                <a:cubicBezTo>
                  <a:pt x="2158" y="381"/>
                  <a:pt x="2095" y="370"/>
                  <a:pt x="2095" y="370"/>
                </a:cubicBezTo>
                <a:cubicBezTo>
                  <a:pt x="2080" y="360"/>
                  <a:pt x="2067" y="347"/>
                  <a:pt x="2051" y="340"/>
                </a:cubicBezTo>
                <a:cubicBezTo>
                  <a:pt x="2022" y="327"/>
                  <a:pt x="1962" y="311"/>
                  <a:pt x="1962" y="311"/>
                </a:cubicBezTo>
                <a:cubicBezTo>
                  <a:pt x="1857" y="239"/>
                  <a:pt x="1715" y="214"/>
                  <a:pt x="1593" y="178"/>
                </a:cubicBezTo>
                <a:cubicBezTo>
                  <a:pt x="1501" y="151"/>
                  <a:pt x="1408" y="103"/>
                  <a:pt x="1312" y="89"/>
                </a:cubicBezTo>
                <a:cubicBezTo>
                  <a:pt x="1263" y="82"/>
                  <a:pt x="1214" y="80"/>
                  <a:pt x="1165" y="74"/>
                </a:cubicBezTo>
                <a:cubicBezTo>
                  <a:pt x="1093" y="65"/>
                  <a:pt x="1029" y="43"/>
                  <a:pt x="958" y="30"/>
                </a:cubicBezTo>
                <a:cubicBezTo>
                  <a:pt x="840" y="8"/>
                  <a:pt x="855" y="14"/>
                  <a:pt x="707" y="0"/>
                </a:cubicBezTo>
                <a:cubicBezTo>
                  <a:pt x="572" y="19"/>
                  <a:pt x="534" y="32"/>
                  <a:pt x="426" y="104"/>
                </a:cubicBezTo>
                <a:cubicBezTo>
                  <a:pt x="411" y="114"/>
                  <a:pt x="397" y="123"/>
                  <a:pt x="382" y="133"/>
                </a:cubicBezTo>
                <a:cubicBezTo>
                  <a:pt x="367" y="143"/>
                  <a:pt x="337" y="163"/>
                  <a:pt x="337" y="163"/>
                </a:cubicBezTo>
                <a:cubicBezTo>
                  <a:pt x="295" y="227"/>
                  <a:pt x="282" y="211"/>
                  <a:pt x="219" y="251"/>
                </a:cubicBezTo>
                <a:cubicBezTo>
                  <a:pt x="209" y="266"/>
                  <a:pt x="203" y="283"/>
                  <a:pt x="190" y="296"/>
                </a:cubicBezTo>
                <a:cubicBezTo>
                  <a:pt x="177" y="309"/>
                  <a:pt x="156" y="311"/>
                  <a:pt x="145" y="325"/>
                </a:cubicBezTo>
                <a:cubicBezTo>
                  <a:pt x="135" y="337"/>
                  <a:pt x="138" y="356"/>
                  <a:pt x="131" y="370"/>
                </a:cubicBezTo>
                <a:cubicBezTo>
                  <a:pt x="123" y="386"/>
                  <a:pt x="108" y="398"/>
                  <a:pt x="101" y="414"/>
                </a:cubicBezTo>
                <a:cubicBezTo>
                  <a:pt x="49" y="531"/>
                  <a:pt x="108" y="480"/>
                  <a:pt x="27" y="532"/>
                </a:cubicBezTo>
                <a:cubicBezTo>
                  <a:pt x="0" y="617"/>
                  <a:pt x="5" y="580"/>
                  <a:pt x="27" y="724"/>
                </a:cubicBezTo>
                <a:cubicBezTo>
                  <a:pt x="36" y="783"/>
                  <a:pt x="57" y="753"/>
                  <a:pt x="27" y="783"/>
                </a:cubicBezTo>
                <a:close/>
              </a:path>
            </a:pathLst>
          </a:custGeom>
          <a:noFill/>
          <a:ln w="73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6"/>
          <p:cNvSpPr/>
          <p:nvPr/>
        </p:nvSpPr>
        <p:spPr>
          <a:xfrm>
            <a:off x="4322880" y="1844640"/>
            <a:ext cx="3525840" cy="1081080"/>
          </a:xfrm>
          <a:prstGeom prst="wedgeEllipseCallout">
            <a:avLst>
              <a:gd name="adj1" fmla="val -59680"/>
              <a:gd name="adj2" fmla="val 701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Verdana"/>
              </a:rPr>
              <a:t>Upper arti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9"/>
          <p:cNvSpPr/>
          <p:nvPr/>
        </p:nvSpPr>
        <p:spPr>
          <a:xfrm>
            <a:off x="4413240" y="3895560"/>
            <a:ext cx="3600360" cy="1368720"/>
          </a:xfrm>
          <a:prstGeom prst="wedgeEllipseCallout">
            <a:avLst>
              <a:gd name="adj1" fmla="val -75000"/>
              <a:gd name="adj2" fmla="val -50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wer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8"/>
          <p:cNvSpPr/>
          <p:nvPr/>
        </p:nvSpPr>
        <p:spPr>
          <a:xfrm>
            <a:off x="1692360" y="3263760"/>
            <a:ext cx="2233440" cy="833400"/>
          </a:xfrm>
          <a:custGeom>
            <a:avLst/>
            <a:gdLst>
              <a:gd name="textAreaLeft" fmla="*/ 0 w 2233440"/>
              <a:gd name="textAreaRight" fmla="*/ 2233800 w 223344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854" h="606">
                <a:moveTo>
                  <a:pt x="12" y="310"/>
                </a:moveTo>
                <a:cubicBezTo>
                  <a:pt x="45" y="215"/>
                  <a:pt x="0" y="308"/>
                  <a:pt x="71" y="251"/>
                </a:cubicBezTo>
                <a:cubicBezTo>
                  <a:pt x="85" y="240"/>
                  <a:pt x="86" y="216"/>
                  <a:pt x="101" y="207"/>
                </a:cubicBezTo>
                <a:cubicBezTo>
                  <a:pt x="113" y="199"/>
                  <a:pt x="205" y="172"/>
                  <a:pt x="234" y="163"/>
                </a:cubicBezTo>
                <a:cubicBezTo>
                  <a:pt x="414" y="104"/>
                  <a:pt x="594" y="38"/>
                  <a:pt x="780" y="0"/>
                </a:cubicBezTo>
                <a:cubicBezTo>
                  <a:pt x="854" y="5"/>
                  <a:pt x="928" y="8"/>
                  <a:pt x="1002" y="15"/>
                </a:cubicBezTo>
                <a:cubicBezTo>
                  <a:pt x="1081" y="23"/>
                  <a:pt x="1238" y="44"/>
                  <a:pt x="1238" y="44"/>
                </a:cubicBezTo>
                <a:cubicBezTo>
                  <a:pt x="1302" y="66"/>
                  <a:pt x="1366" y="83"/>
                  <a:pt x="1430" y="104"/>
                </a:cubicBezTo>
                <a:cubicBezTo>
                  <a:pt x="1445" y="109"/>
                  <a:pt x="1459" y="113"/>
                  <a:pt x="1474" y="118"/>
                </a:cubicBezTo>
                <a:cubicBezTo>
                  <a:pt x="1489" y="123"/>
                  <a:pt x="1518" y="133"/>
                  <a:pt x="1518" y="133"/>
                </a:cubicBezTo>
                <a:cubicBezTo>
                  <a:pt x="1533" y="148"/>
                  <a:pt x="1546" y="165"/>
                  <a:pt x="1563" y="177"/>
                </a:cubicBezTo>
                <a:cubicBezTo>
                  <a:pt x="1576" y="186"/>
                  <a:pt x="1595" y="182"/>
                  <a:pt x="1607" y="192"/>
                </a:cubicBezTo>
                <a:cubicBezTo>
                  <a:pt x="1703" y="268"/>
                  <a:pt x="1571" y="213"/>
                  <a:pt x="1681" y="251"/>
                </a:cubicBezTo>
                <a:cubicBezTo>
                  <a:pt x="1756" y="367"/>
                  <a:pt x="1659" y="230"/>
                  <a:pt x="1755" y="325"/>
                </a:cubicBezTo>
                <a:cubicBezTo>
                  <a:pt x="1790" y="360"/>
                  <a:pt x="1801" y="417"/>
                  <a:pt x="1829" y="458"/>
                </a:cubicBezTo>
                <a:cubicBezTo>
                  <a:pt x="1854" y="536"/>
                  <a:pt x="1853" y="560"/>
                  <a:pt x="1784" y="606"/>
                </a:cubicBezTo>
                <a:cubicBezTo>
                  <a:pt x="1522" y="582"/>
                  <a:pt x="1264" y="519"/>
                  <a:pt x="1002" y="488"/>
                </a:cubicBezTo>
                <a:cubicBezTo>
                  <a:pt x="868" y="443"/>
                  <a:pt x="1001" y="483"/>
                  <a:pt x="691" y="458"/>
                </a:cubicBezTo>
                <a:cubicBezTo>
                  <a:pt x="656" y="455"/>
                  <a:pt x="622" y="449"/>
                  <a:pt x="588" y="443"/>
                </a:cubicBezTo>
                <a:cubicBezTo>
                  <a:pt x="568" y="439"/>
                  <a:pt x="549" y="431"/>
                  <a:pt x="529" y="428"/>
                </a:cubicBezTo>
                <a:cubicBezTo>
                  <a:pt x="366" y="407"/>
                  <a:pt x="203" y="393"/>
                  <a:pt x="42" y="355"/>
                </a:cubicBezTo>
                <a:cubicBezTo>
                  <a:pt x="25" y="305"/>
                  <a:pt x="43" y="310"/>
                  <a:pt x="12" y="310"/>
                </a:cubicBezTo>
                <a:close/>
              </a:path>
            </a:pathLst>
          </a:cu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5148360" y="1325520"/>
            <a:ext cx="33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9"/>
                </a:solidFill>
                <a:latin typeface="Constantia"/>
              </a:rPr>
              <a:t>Pass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5148360" y="342108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nstantia"/>
              </a:rPr>
              <a:t>act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42876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  <a:ea typeface="Arial"/>
              </a:rPr>
              <a:t>Pharynx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9" descr="uchr_01_img0033"/>
          <p:cNvPicPr/>
          <p:nvPr/>
        </p:nvPicPr>
        <p:blipFill>
          <a:blip r:embed="rId1"/>
          <a:stretch/>
        </p:blipFill>
        <p:spPr>
          <a:xfrm>
            <a:off x="571680" y="1357200"/>
            <a:ext cx="4751280" cy="52279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4"/>
          <p:cNvSpPr/>
          <p:nvPr/>
        </p:nvSpPr>
        <p:spPr>
          <a:xfrm>
            <a:off x="3857760" y="3286080"/>
            <a:ext cx="576000" cy="2303640"/>
          </a:xfrm>
          <a:prstGeom prst="rect">
            <a:avLst/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57880" y="1785960"/>
            <a:ext cx="335736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It 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primarily a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ube 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larynx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or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nasal ca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vocal tract (lower)"/>
          <p:cNvPicPr/>
          <p:nvPr/>
        </p:nvPicPr>
        <p:blipFill>
          <a:blip r:embed="rId1"/>
          <a:stretch/>
        </p:blipFill>
        <p:spPr>
          <a:xfrm>
            <a:off x="928800" y="1643040"/>
            <a:ext cx="4572000" cy="41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2 CuadroTexto"/>
          <p:cNvSpPr/>
          <p:nvPr/>
        </p:nvSpPr>
        <p:spPr>
          <a:xfrm>
            <a:off x="2071800" y="50004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49e"/>
                </a:solidFill>
                <a:latin typeface="Constantia"/>
              </a:rPr>
              <a:t>The To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3 CuadroTexto"/>
          <p:cNvSpPr/>
          <p:nvPr/>
        </p:nvSpPr>
        <p:spPr>
          <a:xfrm>
            <a:off x="5857920" y="1428840"/>
            <a:ext cx="3000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the most important articulat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4 CuadroTexto"/>
          <p:cNvSpPr/>
          <p:nvPr/>
        </p:nvSpPr>
        <p:spPr>
          <a:xfrm>
            <a:off x="5786280" y="3000240"/>
            <a:ext cx="285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can be moved to many different pla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5 CuadroTexto"/>
          <p:cNvSpPr/>
          <p:nvPr/>
        </p:nvSpPr>
        <p:spPr>
          <a:xfrm>
            <a:off x="5857920" y="4714920"/>
            <a:ext cx="257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divided into 6 p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78588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(Hard ) Pa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Palatal articulation"/>
          <p:cNvPicPr/>
          <p:nvPr/>
        </p:nvPicPr>
        <p:blipFill>
          <a:blip r:embed="rId1"/>
          <a:stretch/>
        </p:blipFill>
        <p:spPr>
          <a:xfrm>
            <a:off x="1143000" y="1714680"/>
            <a:ext cx="4071960" cy="3929040"/>
          </a:xfrm>
          <a:prstGeom prst="rect">
            <a:avLst/>
          </a:prstGeom>
          <a:ln w="0">
            <a:noFill/>
          </a:ln>
        </p:spPr>
      </p:pic>
      <p:sp>
        <p:nvSpPr>
          <p:cNvPr id="532" name="Oval 10"/>
          <p:cNvSpPr/>
          <p:nvPr/>
        </p:nvSpPr>
        <p:spPr>
          <a:xfrm rot="3173400">
            <a:off x="2859840" y="234396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4 CuadroTexto"/>
          <p:cNvSpPr/>
          <p:nvPr/>
        </p:nvSpPr>
        <p:spPr>
          <a:xfrm>
            <a:off x="5715000" y="2286000"/>
            <a:ext cx="3214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Also called  the “roof of the mouth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5 Rectángulo"/>
          <p:cNvSpPr/>
          <p:nvPr/>
        </p:nvSpPr>
        <p:spPr>
          <a:xfrm>
            <a:off x="5786280" y="3714840"/>
            <a:ext cx="292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a curved surfaced .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85880" y="2858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cc"/>
                </a:solidFill>
                <a:latin typeface="Arial"/>
                <a:ea typeface="Arial"/>
              </a:rPr>
              <a:t>Velum/ Soft Palate</a:t>
            </a:r>
            <a:r>
              <a:rPr b="1" lang="en-US" sz="50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295280" y="50007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nstantia"/>
              </a:rPr>
              <a:t>It is located between the pharynx and the hard palate.  It controls the airflow into the nasal cav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Velar"/>
          <p:cNvPicPr/>
          <p:nvPr/>
        </p:nvPicPr>
        <p:blipFill>
          <a:blip r:embed="rId1"/>
          <a:stretch/>
        </p:blipFill>
        <p:spPr>
          <a:xfrm>
            <a:off x="1357200" y="1428840"/>
            <a:ext cx="4464000" cy="3512880"/>
          </a:xfrm>
          <a:prstGeom prst="rect">
            <a:avLst/>
          </a:prstGeom>
          <a:ln w="0">
            <a:noFill/>
          </a:ln>
        </p:spPr>
      </p:pic>
      <p:sp>
        <p:nvSpPr>
          <p:cNvPr id="538" name="Oval 10"/>
          <p:cNvSpPr/>
          <p:nvPr/>
        </p:nvSpPr>
        <p:spPr>
          <a:xfrm rot="3173400">
            <a:off x="4002840" y="205812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6215040" y="2214720"/>
            <a:ext cx="252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g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k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 ŋ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785880" y="642960"/>
            <a:ext cx="80010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nstantia"/>
              </a:rPr>
              <a:t>Unlike he hard palate, which is made of bone, the soft palate is made of muscle and soft tissue.</a:t>
            </a:r>
            <a:r>
              <a:rPr b="1" lang="en-US" sz="3200" spc="-1" strike="noStrike">
                <a:solidFill>
                  <a:srgbClr val="660066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When it is lowered it allows air to flow into the nasal cavity and exit through the nose.  When it is raised the air can enter the oral cavity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0:48:34Z</dcterms:created>
  <dc:creator>Administrador</dc:creator>
  <dc:description/>
  <dc:language>en-US</dc:language>
  <cp:lastModifiedBy>Carina</cp:lastModifiedBy>
  <dcterms:modified xsi:type="dcterms:W3CDTF">2013-06-01T02:37:45Z</dcterms:modified>
  <cp:revision>19</cp:revision>
  <dc:subject/>
  <dc:title>Diapositiva 1</dc:title>
</cp:coreProperties>
</file>