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534E-B3A0-4463-9FDA-76584778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8637-ECEA-426B-A10F-03664FA4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F05E3-646E-4388-8391-6D7BD176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D848D-F105-4C66-8D1B-16FBA61E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2B4D0-83C6-43D3-84DE-F8144595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2F7D3-6A1C-46EA-A317-AFDF6CCD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D9D23-C504-4CA4-8369-C280AF58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B63BC-273F-4B74-A434-418DCD7E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B6C93-D33C-4017-B66B-7861EFA3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38313-ADE1-4405-AC9F-4F7CAE52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ED549-81EC-4838-AADF-F4ED276B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4CB84-3C6A-4C21-88BD-DB614C80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F9B-1467-4584-82B6-44074EC1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FB01A-3D80-49D4-9E92-63993CCC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EA8D3-3359-43A4-8D79-11C364E7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2FAA0-36DF-4F3D-BA92-ABDE59CD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B204F-EB05-432C-82C0-77AF248A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63456-7805-4E4B-BB2E-541F4228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53E5F-41F3-475B-AE69-5141B4A2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BCD8C-75F2-4784-9665-0AA0BEAB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C4464-E853-4881-8A23-87FFFADC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DEFD7-B8E3-40A3-B3E6-AE22A908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FC835-E440-4E5B-ADDE-9A1EE5DA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20F-936D-4CDC-AF3F-EFA08AE3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29BB0-FCA6-426A-B1D2-0F1200C7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9FD6A-B0A5-4476-9E9B-F341D025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01C9A-1651-4494-9141-D0A2C635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06B7E-4C8A-484E-A84E-A75C273C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22CCC-E63F-44F8-AEE4-EE5EBF69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0D847-59B9-404B-9057-F6F4E703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4D451-6D54-4399-A887-98DC2B55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8AD4D-D2CB-4ABF-B336-3831B381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4CBDD-9F93-4F97-9E7F-9E0767F0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C2012-133A-4CA6-BD5B-43564895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0030-340E-4F47-81E3-7FEF1997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34A96-93FB-4862-B3B4-8E63A579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4B4E2-D2F2-48F0-A5CA-3382D924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3EB06-F2EB-4B79-90F0-715CCDFB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3F35F-C889-4F26-8201-D8E5A3E7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F4D8B-48BD-44CA-B2E4-5CF17C42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A61DC-E5F9-46BA-9F18-660B1917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587CE-587F-4EB1-91CC-2FF9B99D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4C5A1-238B-4E11-AB38-7604B199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5117A-8CF3-4176-B42B-68C3393A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2E715-89AA-4972-BB0F-6B2A71E9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F9FE-DA52-4555-9B30-D36986FA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5D51E-1FB9-4565-A7CE-6700B243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0DE8F-0E7C-424E-B96E-B1E31916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9F25E-ED17-404F-8066-F47E05CF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AE77A-ACDE-4C84-B1E9-B5F2AF6D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5710F-2422-4763-8039-5DA5C691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1CA2-13A1-4F3F-BCD8-5DD517AE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81B6-453A-4DBF-AB97-CEEF8491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13B9-9B64-4E30-B3CD-7D58ED71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AF71-C58D-432A-B6EB-C8C82481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6C98-E9FA-4B07-9957-50F5AF1C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0F51-C85B-4EDF-B540-657582F3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A1F8-4648-498A-A712-E17F5E3D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BD15-1DA0-44CE-9D13-0775E869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288A-6855-4697-A51A-FE262B0B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D94B-F11C-41B4-B258-B50E9012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E32B-CA31-4B99-A1E2-64C0E984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5EB4B-B8C1-469D-8E07-54531918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2E234-0D34-4432-B5CD-5DD562F0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B8CFD-3F05-40D7-9DAB-4E40B36F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B16E0-4094-463F-A814-07E41381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2CE89-0BC3-49C2-8CF1-4D83D606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B85E-F2FE-43AF-9618-9E3CAD5B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3B9C2-115B-403F-8836-37056E25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CEA60-0CD9-4BE3-8549-BAB0F63B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28B29-1E0C-42F1-B45E-3D90EB60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4EA14-2FC3-4CAB-AF08-26585ADE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0C095-2C2E-4A0E-BB85-6CC86238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8DB5B-5D76-4760-9208-57381167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A5CBE-48D5-4541-88AD-3EFCC158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7547A-11F4-47CD-9C2D-5BA16A66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EC778-3D08-49AF-9F8D-2936673C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0542E-F239-4543-81D1-F129A9F1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5059-41FD-4C08-AAF4-B62D1DCB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319A1-8A42-41A6-8077-AC660AE6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3C53A-5B5F-4E15-B592-5B39A17F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24764-FBDB-442E-B066-5031E641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48B0F-DFC6-4117-889A-2682EBFF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41873-2071-4B8E-883A-38108DC3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E7F26-B20C-468F-837C-A9E3B6FC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BCE00-5E33-4E0B-B65D-3833CB38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12BB2-947D-4809-A0F0-5A26B00D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EEA4F-E535-4188-A720-6DD0C629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77A03-DD2C-4059-9407-242F53E8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F05E-F571-4B8A-A046-4933521A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DB50E-F80B-4472-99D9-0FC7117D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2FFA6-DD70-4D5C-8D95-07031B9A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A0462-355D-40F8-9C02-5DC46806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CBCD0-895E-4EF5-A5C6-2D6DFF30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90DBF-B2AA-493C-8420-9B0D277C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FB8D1-F8DD-4403-AB87-8F1D86D5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872DE-11FB-49E2-AFAE-0A06F98C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7E2DC-BCF4-4F0F-B5F0-6E7456D0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1630B-A2C4-4055-8E6E-955BBD53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45C87-E713-4342-965E-2D405157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3829-2506-44BC-89C9-E977C2D1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716DD-F336-4006-B061-35281D73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64D4C-5F2E-41BF-82F1-E0B79D9B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1D26C-CDF4-4FB1-BA6E-8318CA8C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18DB9-F9C8-4EE4-B401-65FE5D75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57430-709E-43E4-A9A0-FB053EDB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3FEFA-1EB7-4C39-93F9-74562F88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94C9B-8A51-4FB2-B871-8BE41376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D8D46-5725-4154-941E-CEE7A70F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BD3A5-F34A-4855-915C-28BECA75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DB53A-CD88-4B91-8822-6D7C2F39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0436-3DBE-4C6D-A0F3-BD0E0B84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45702-E309-4242-AC49-7D00C0D6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E4384-7A5B-45FC-B378-AAB6979E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F15EF-8EBB-4AE0-878C-215FE41D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8CB0E-A55B-4240-8DC9-02465E6A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1415A-AAB6-4426-9873-71022523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9B4C3-78E4-41DE-89AE-E559C49D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866E9-E467-4184-A719-B0A01A0D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2D973-2695-4D1A-8EE2-B069CDF2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50066-48A5-4785-98E4-C3BE84F0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A1F77-462A-4CCC-A3CD-E6BE6FB9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5F3B-AB36-4466-9A12-2ACDFDEE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3D488-A479-4870-A58D-2C2B5101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B4100-5D35-4C6F-B8F5-3DBDE00F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50486-8958-4D4D-A6F7-F0344D5D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28313-AC44-46BF-9317-101BE3E2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311A4-73BC-4814-8561-C4432033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13E70-23E9-43A9-8959-DABE357D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543AC-6412-4B3E-A61E-343FC8B5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EA80E-E354-4CBE-8D49-43DBA26C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75DBC-DE66-415A-8110-04D714FC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67E76-DD20-4CC9-BD38-960888F8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FC94-9DE4-4A1C-81C9-B4B367F4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71529-5EE3-43C2-A68F-5DB99289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AEF41-AB1A-4080-825D-524B2396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46707-B035-4B4F-9095-999EF377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92D66-A361-46BF-8481-EFE10D6B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8C464-D580-4784-8DDC-DA7A8A49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9ECE8-1592-4848-9471-CD01EB8B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9BB7E-C7EB-4977-9DB5-A2AF43E2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E2191-6114-4213-BD5A-5B7E115F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1EF12-D272-4CA5-9363-A8591801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FCF91-B75B-40A7-9671-4DAC690A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5D38-0751-48C5-9D06-6D192085DD8B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72E3-7757-49E3-BDBB-2EB9E12695B7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7121-52D4-431C-8BC0-C7BED5FF192F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0426-4873-4966-8399-500C96188E75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7EEF-D994-4B27-86A9-7CFC4206CCC6}" type="slidenum"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8FDE-BC5C-4BCB-9B91-66EA57B51CFC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8046-00E1-4784-B82B-01464C18C7B6}" type="slidenum"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A6B3-3DA1-42D1-9811-79786604D8A1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E0EB-ADA5-42B2-857A-C4EEEC75B5EC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9FD4-D396-4A0C-80DB-15A4054DCADB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DF19-BD78-49D9-99FA-31F49D531A37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727B-4EBD-435E-A3F8-A1C2E2C051E2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2 Rectángulo" descr=""/>
          <p:cNvPicPr/>
          <p:nvPr/>
        </p:nvPicPr>
        <p:blipFill>
          <a:blip r:embed="rId1"/>
          <a:stretch/>
        </p:blipFill>
        <p:spPr>
          <a:xfrm>
            <a:off x="1212840" y="1487520"/>
            <a:ext cx="7004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785880" y="5000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0059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e40059"/>
                </a:solidFill>
                <a:latin typeface="Arial"/>
                <a:ea typeface="Arial"/>
              </a:rPr>
              <a:t>Alveolar rid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Alveolar articulation"/>
          <p:cNvPicPr/>
          <p:nvPr/>
        </p:nvPicPr>
        <p:blipFill>
          <a:blip r:embed="rId1"/>
          <a:stretch/>
        </p:blipFill>
        <p:spPr>
          <a:xfrm>
            <a:off x="1143000" y="1500120"/>
            <a:ext cx="4429080" cy="4286160"/>
          </a:xfrm>
          <a:prstGeom prst="rect">
            <a:avLst/>
          </a:prstGeom>
          <a:ln w="0">
            <a:noFill/>
          </a:ln>
        </p:spPr>
      </p:pic>
      <p:sp>
        <p:nvSpPr>
          <p:cNvPr id="543" name="Oval 10"/>
          <p:cNvSpPr/>
          <p:nvPr/>
        </p:nvSpPr>
        <p:spPr>
          <a:xfrm rot="3173400">
            <a:off x="2539440" y="2675160"/>
            <a:ext cx="644400" cy="77796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5 CuadroTexto"/>
          <p:cNvSpPr/>
          <p:nvPr/>
        </p:nvSpPr>
        <p:spPr>
          <a:xfrm>
            <a:off x="5857920" y="1785960"/>
            <a:ext cx="2928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situated between the teeth and the hard pala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6 CuadroTexto"/>
          <p:cNvSpPr/>
          <p:nvPr/>
        </p:nvSpPr>
        <p:spPr>
          <a:xfrm>
            <a:off x="5857920" y="3571920"/>
            <a:ext cx="2643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covered with little rid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5786280" y="5357880"/>
            <a:ext cx="28083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d/, /t/,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/n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Dental articulation"/>
          <p:cNvPicPr/>
          <p:nvPr/>
        </p:nvPicPr>
        <p:blipFill>
          <a:blip r:embed="rId1"/>
          <a:stretch/>
        </p:blipFill>
        <p:spPr>
          <a:xfrm>
            <a:off x="4286160" y="1571760"/>
            <a:ext cx="4071960" cy="36432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2"/>
          <p:cNvSpPr/>
          <p:nvPr/>
        </p:nvSpPr>
        <p:spPr>
          <a:xfrm>
            <a:off x="714240" y="500040"/>
            <a:ext cx="7429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 </a:t>
            </a: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The tee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3 CuadroTexto"/>
          <p:cNvSpPr/>
          <p:nvPr/>
        </p:nvSpPr>
        <p:spPr>
          <a:xfrm>
            <a:off x="500040" y="1643040"/>
            <a:ext cx="3357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are located at the front of the mouth immediately behind the lip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5 CuadroTexto"/>
          <p:cNvSpPr/>
          <p:nvPr/>
        </p:nvSpPr>
        <p:spPr>
          <a:xfrm>
            <a:off x="571680" y="3786120"/>
            <a:ext cx="35002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For many speech sounds the tongue is in contact with the upper teeth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4143240" y="535788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el-G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θ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, /ð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785880" y="7142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The li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5" descr="Bilabial articulation"/>
          <p:cNvPicPr/>
          <p:nvPr/>
        </p:nvPicPr>
        <p:blipFill>
          <a:blip r:embed="rId1"/>
          <a:stretch/>
        </p:blipFill>
        <p:spPr>
          <a:xfrm>
            <a:off x="5000760" y="1857240"/>
            <a:ext cx="3376440" cy="3429000"/>
          </a:xfrm>
          <a:prstGeom prst="rect">
            <a:avLst/>
          </a:prstGeom>
          <a:ln w="0">
            <a:noFill/>
          </a:ln>
        </p:spPr>
      </p:pic>
      <p:sp>
        <p:nvSpPr>
          <p:cNvPr id="554" name="5 CuadroTexto"/>
          <p:cNvSpPr/>
          <p:nvPr/>
        </p:nvSpPr>
        <p:spPr>
          <a:xfrm>
            <a:off x="1143000" y="1928880"/>
            <a:ext cx="36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are very important in speec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6 CuadroTexto"/>
          <p:cNvSpPr/>
          <p:nvPr/>
        </p:nvSpPr>
        <p:spPr>
          <a:xfrm>
            <a:off x="1143000" y="3000240"/>
            <a:ext cx="3571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 can be pressed together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1428840" y="428616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/b/, /p/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/m/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6" descr="Labiodental articulation"/>
          <p:cNvPicPr/>
          <p:nvPr/>
        </p:nvPicPr>
        <p:blipFill>
          <a:blip r:embed="rId1"/>
          <a:stretch/>
        </p:blipFill>
        <p:spPr>
          <a:xfrm>
            <a:off x="5143680" y="857160"/>
            <a:ext cx="3163680" cy="4143600"/>
          </a:xfrm>
          <a:prstGeom prst="rect">
            <a:avLst/>
          </a:prstGeom>
          <a:ln w="0">
            <a:noFill/>
          </a:ln>
        </p:spPr>
      </p:pic>
      <p:sp>
        <p:nvSpPr>
          <p:cNvPr id="558" name="2 CuadroTexto"/>
          <p:cNvSpPr/>
          <p:nvPr/>
        </p:nvSpPr>
        <p:spPr>
          <a:xfrm>
            <a:off x="714240" y="1143000"/>
            <a:ext cx="3786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can be brought into contact with the tee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1214280" y="3286080"/>
            <a:ext cx="26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/f/, /v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1 Imagen" descr=""/>
          <p:cNvPicPr/>
          <p:nvPr/>
        </p:nvPicPr>
        <p:blipFill>
          <a:blip r:embed="rId1"/>
          <a:stretch/>
        </p:blipFill>
        <p:spPr>
          <a:xfrm>
            <a:off x="2052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1 Rectángulo" descr=""/>
          <p:cNvPicPr/>
          <p:nvPr/>
        </p:nvPicPr>
        <p:blipFill>
          <a:blip r:embed="rId1"/>
          <a:stretch/>
        </p:blipFill>
        <p:spPr>
          <a:xfrm>
            <a:off x="1500120" y="517680"/>
            <a:ext cx="6070680" cy="1847520"/>
          </a:xfrm>
          <a:prstGeom prst="rect">
            <a:avLst/>
          </a:prstGeom>
          <a:ln w="0">
            <a:noFill/>
          </a:ln>
        </p:spPr>
      </p:pic>
      <p:sp>
        <p:nvSpPr>
          <p:cNvPr id="507" name="2 Rectángulo"/>
          <p:cNvSpPr/>
          <p:nvPr/>
        </p:nvSpPr>
        <p:spPr>
          <a:xfrm>
            <a:off x="1285920" y="2857680"/>
            <a:ext cx="6215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The production of any speech sound involves the movement of an air strea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3 Rectángulo"/>
          <p:cNvSpPr/>
          <p:nvPr/>
        </p:nvSpPr>
        <p:spPr>
          <a:xfrm>
            <a:off x="1357200" y="4357800"/>
            <a:ext cx="6286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Constantia"/>
              </a:rPr>
              <a:t>Most speech sounds are produced by pushing the air out of the lungs through the mouth (oral) and sometimes through the nose (nasa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71424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Arial"/>
              </a:rPr>
              <a:t>Vocal 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714240" y="1214280"/>
            <a:ext cx="8001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nstantia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The airway used in the production of speech, especially the passage above the larynx, including the pharynx, mouth, and nasal ca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5" descr="Vocal tract mesh&#10;embedded with MRI"/>
          <p:cNvPicPr/>
          <p:nvPr/>
        </p:nvPicPr>
        <p:blipFill>
          <a:blip r:embed="rId1"/>
          <a:stretch/>
        </p:blipFill>
        <p:spPr>
          <a:xfrm>
            <a:off x="1428840" y="2786040"/>
            <a:ext cx="2305080" cy="35272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Tract mesh for&#10;vowel e"/>
          <p:cNvPicPr/>
          <p:nvPr/>
        </p:nvPicPr>
        <p:blipFill>
          <a:blip r:embed="rId2"/>
          <a:stretch/>
        </p:blipFill>
        <p:spPr>
          <a:xfrm>
            <a:off x="4500720" y="321480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285840" y="500040"/>
            <a:ext cx="8143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ticulators are divided into 2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5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111640" cy="4392720"/>
          </a:xfrm>
          <a:prstGeom prst="rect">
            <a:avLst/>
          </a:prstGeom>
          <a:ln w="0">
            <a:noFill/>
          </a:ln>
        </p:spPr>
      </p:pic>
      <p:sp>
        <p:nvSpPr>
          <p:cNvPr id="515" name="Freeform 12"/>
          <p:cNvSpPr/>
          <p:nvPr/>
        </p:nvSpPr>
        <p:spPr>
          <a:xfrm>
            <a:off x="1635120" y="2639880"/>
            <a:ext cx="2778120" cy="1095480"/>
          </a:xfrm>
          <a:custGeom>
            <a:avLst/>
            <a:gdLst>
              <a:gd name="textAreaLeft" fmla="*/ 0 w 2778120"/>
              <a:gd name="textAreaRight" fmla="*/ 2778480 w 2778120"/>
              <a:gd name="textAreaTop" fmla="*/ 0 h 1095480"/>
              <a:gd name="textAreaBottom" fmla="*/ 1095840 h 1095480"/>
            </a:gdLst>
            <a:ahLst/>
            <a:rect l="textAreaLeft" t="textAreaTop" r="textAreaRight" b="textAreaBottom"/>
            <a:pathLst>
              <a:path w="2410" h="1158">
                <a:moveTo>
                  <a:pt x="27" y="783"/>
                </a:moveTo>
                <a:cubicBezTo>
                  <a:pt x="176" y="768"/>
                  <a:pt x="327" y="741"/>
                  <a:pt x="470" y="695"/>
                </a:cubicBezTo>
                <a:cubicBezTo>
                  <a:pt x="538" y="650"/>
                  <a:pt x="615" y="632"/>
                  <a:pt x="692" y="606"/>
                </a:cubicBezTo>
                <a:cubicBezTo>
                  <a:pt x="709" y="600"/>
                  <a:pt x="720" y="584"/>
                  <a:pt x="736" y="576"/>
                </a:cubicBezTo>
                <a:cubicBezTo>
                  <a:pt x="750" y="569"/>
                  <a:pt x="766" y="566"/>
                  <a:pt x="781" y="562"/>
                </a:cubicBezTo>
                <a:cubicBezTo>
                  <a:pt x="936" y="519"/>
                  <a:pt x="1095" y="505"/>
                  <a:pt x="1253" y="473"/>
                </a:cubicBezTo>
                <a:cubicBezTo>
                  <a:pt x="1366" y="492"/>
                  <a:pt x="1480" y="496"/>
                  <a:pt x="1593" y="517"/>
                </a:cubicBezTo>
                <a:cubicBezTo>
                  <a:pt x="1608" y="527"/>
                  <a:pt x="1621" y="540"/>
                  <a:pt x="1637" y="547"/>
                </a:cubicBezTo>
                <a:cubicBezTo>
                  <a:pt x="1666" y="560"/>
                  <a:pt x="1726" y="576"/>
                  <a:pt x="1726" y="576"/>
                </a:cubicBezTo>
                <a:cubicBezTo>
                  <a:pt x="1809" y="705"/>
                  <a:pt x="1698" y="554"/>
                  <a:pt x="1800" y="635"/>
                </a:cubicBezTo>
                <a:cubicBezTo>
                  <a:pt x="1814" y="646"/>
                  <a:pt x="1816" y="667"/>
                  <a:pt x="1829" y="680"/>
                </a:cubicBezTo>
                <a:cubicBezTo>
                  <a:pt x="1841" y="693"/>
                  <a:pt x="1858" y="699"/>
                  <a:pt x="1873" y="709"/>
                </a:cubicBezTo>
                <a:cubicBezTo>
                  <a:pt x="1943" y="813"/>
                  <a:pt x="1903" y="778"/>
                  <a:pt x="1977" y="827"/>
                </a:cubicBezTo>
                <a:cubicBezTo>
                  <a:pt x="2046" y="931"/>
                  <a:pt x="2007" y="896"/>
                  <a:pt x="2080" y="946"/>
                </a:cubicBezTo>
                <a:cubicBezTo>
                  <a:pt x="2100" y="1006"/>
                  <a:pt x="2124" y="1029"/>
                  <a:pt x="2184" y="1049"/>
                </a:cubicBezTo>
                <a:cubicBezTo>
                  <a:pt x="2202" y="1107"/>
                  <a:pt x="2203" y="1158"/>
                  <a:pt x="2317" y="1079"/>
                </a:cubicBezTo>
                <a:cubicBezTo>
                  <a:pt x="2343" y="1061"/>
                  <a:pt x="2336" y="1020"/>
                  <a:pt x="2346" y="990"/>
                </a:cubicBezTo>
                <a:cubicBezTo>
                  <a:pt x="2351" y="973"/>
                  <a:pt x="2366" y="961"/>
                  <a:pt x="2376" y="946"/>
                </a:cubicBezTo>
                <a:cubicBezTo>
                  <a:pt x="2410" y="836"/>
                  <a:pt x="2410" y="734"/>
                  <a:pt x="2376" y="621"/>
                </a:cubicBezTo>
                <a:cubicBezTo>
                  <a:pt x="2367" y="592"/>
                  <a:pt x="2348" y="515"/>
                  <a:pt x="2317" y="488"/>
                </a:cubicBezTo>
                <a:cubicBezTo>
                  <a:pt x="2277" y="453"/>
                  <a:pt x="2228" y="429"/>
                  <a:pt x="2184" y="399"/>
                </a:cubicBezTo>
                <a:cubicBezTo>
                  <a:pt x="2158" y="381"/>
                  <a:pt x="2095" y="370"/>
                  <a:pt x="2095" y="370"/>
                </a:cubicBezTo>
                <a:cubicBezTo>
                  <a:pt x="2080" y="360"/>
                  <a:pt x="2067" y="347"/>
                  <a:pt x="2051" y="340"/>
                </a:cubicBezTo>
                <a:cubicBezTo>
                  <a:pt x="2022" y="327"/>
                  <a:pt x="1962" y="311"/>
                  <a:pt x="1962" y="311"/>
                </a:cubicBezTo>
                <a:cubicBezTo>
                  <a:pt x="1857" y="239"/>
                  <a:pt x="1715" y="214"/>
                  <a:pt x="1593" y="178"/>
                </a:cubicBezTo>
                <a:cubicBezTo>
                  <a:pt x="1501" y="151"/>
                  <a:pt x="1408" y="103"/>
                  <a:pt x="1312" y="89"/>
                </a:cubicBezTo>
                <a:cubicBezTo>
                  <a:pt x="1263" y="82"/>
                  <a:pt x="1214" y="80"/>
                  <a:pt x="1165" y="74"/>
                </a:cubicBezTo>
                <a:cubicBezTo>
                  <a:pt x="1093" y="65"/>
                  <a:pt x="1029" y="43"/>
                  <a:pt x="958" y="30"/>
                </a:cubicBezTo>
                <a:cubicBezTo>
                  <a:pt x="840" y="8"/>
                  <a:pt x="855" y="14"/>
                  <a:pt x="707" y="0"/>
                </a:cubicBezTo>
                <a:cubicBezTo>
                  <a:pt x="572" y="19"/>
                  <a:pt x="534" y="32"/>
                  <a:pt x="426" y="104"/>
                </a:cubicBezTo>
                <a:cubicBezTo>
                  <a:pt x="411" y="114"/>
                  <a:pt x="397" y="123"/>
                  <a:pt x="382" y="133"/>
                </a:cubicBezTo>
                <a:cubicBezTo>
                  <a:pt x="367" y="143"/>
                  <a:pt x="337" y="163"/>
                  <a:pt x="337" y="163"/>
                </a:cubicBezTo>
                <a:cubicBezTo>
                  <a:pt x="295" y="227"/>
                  <a:pt x="282" y="211"/>
                  <a:pt x="219" y="251"/>
                </a:cubicBezTo>
                <a:cubicBezTo>
                  <a:pt x="209" y="266"/>
                  <a:pt x="203" y="283"/>
                  <a:pt x="190" y="296"/>
                </a:cubicBezTo>
                <a:cubicBezTo>
                  <a:pt x="177" y="309"/>
                  <a:pt x="156" y="311"/>
                  <a:pt x="145" y="325"/>
                </a:cubicBezTo>
                <a:cubicBezTo>
                  <a:pt x="135" y="337"/>
                  <a:pt x="138" y="356"/>
                  <a:pt x="131" y="370"/>
                </a:cubicBezTo>
                <a:cubicBezTo>
                  <a:pt x="123" y="386"/>
                  <a:pt x="108" y="398"/>
                  <a:pt x="101" y="414"/>
                </a:cubicBezTo>
                <a:cubicBezTo>
                  <a:pt x="49" y="531"/>
                  <a:pt x="108" y="480"/>
                  <a:pt x="27" y="532"/>
                </a:cubicBezTo>
                <a:cubicBezTo>
                  <a:pt x="0" y="617"/>
                  <a:pt x="5" y="580"/>
                  <a:pt x="27" y="724"/>
                </a:cubicBezTo>
                <a:cubicBezTo>
                  <a:pt x="36" y="783"/>
                  <a:pt x="57" y="753"/>
                  <a:pt x="27" y="783"/>
                </a:cubicBezTo>
                <a:close/>
              </a:path>
            </a:pathLst>
          </a:custGeom>
          <a:noFill/>
          <a:ln w="73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6"/>
          <p:cNvSpPr/>
          <p:nvPr/>
        </p:nvSpPr>
        <p:spPr>
          <a:xfrm>
            <a:off x="4322880" y="1844640"/>
            <a:ext cx="3525840" cy="1081080"/>
          </a:xfrm>
          <a:prstGeom prst="wedgeEllipseCallout">
            <a:avLst>
              <a:gd name="adj1" fmla="val -59680"/>
              <a:gd name="adj2" fmla="val 7011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9"/>
                </a:solidFill>
                <a:latin typeface="Verdana"/>
              </a:rPr>
              <a:t>Upper artic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9"/>
          <p:cNvSpPr/>
          <p:nvPr/>
        </p:nvSpPr>
        <p:spPr>
          <a:xfrm>
            <a:off x="4413240" y="3895560"/>
            <a:ext cx="3600360" cy="1368720"/>
          </a:xfrm>
          <a:prstGeom prst="wedgeEllipseCallout">
            <a:avLst>
              <a:gd name="adj1" fmla="val -75000"/>
              <a:gd name="adj2" fmla="val -50000"/>
            </a:avLst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Lower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8"/>
          <p:cNvSpPr/>
          <p:nvPr/>
        </p:nvSpPr>
        <p:spPr>
          <a:xfrm>
            <a:off x="1692360" y="3263760"/>
            <a:ext cx="2233440" cy="833400"/>
          </a:xfrm>
          <a:custGeom>
            <a:avLst/>
            <a:gdLst>
              <a:gd name="textAreaLeft" fmla="*/ 0 w 2233440"/>
              <a:gd name="textAreaRight" fmla="*/ 2233800 w 223344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1854" h="606">
                <a:moveTo>
                  <a:pt x="12" y="310"/>
                </a:moveTo>
                <a:cubicBezTo>
                  <a:pt x="45" y="215"/>
                  <a:pt x="0" y="308"/>
                  <a:pt x="71" y="251"/>
                </a:cubicBezTo>
                <a:cubicBezTo>
                  <a:pt x="85" y="240"/>
                  <a:pt x="86" y="216"/>
                  <a:pt x="101" y="207"/>
                </a:cubicBezTo>
                <a:cubicBezTo>
                  <a:pt x="113" y="199"/>
                  <a:pt x="205" y="172"/>
                  <a:pt x="234" y="163"/>
                </a:cubicBezTo>
                <a:cubicBezTo>
                  <a:pt x="414" y="104"/>
                  <a:pt x="594" y="38"/>
                  <a:pt x="780" y="0"/>
                </a:cubicBezTo>
                <a:cubicBezTo>
                  <a:pt x="854" y="5"/>
                  <a:pt x="928" y="8"/>
                  <a:pt x="1002" y="15"/>
                </a:cubicBezTo>
                <a:cubicBezTo>
                  <a:pt x="1081" y="23"/>
                  <a:pt x="1238" y="44"/>
                  <a:pt x="1238" y="44"/>
                </a:cubicBezTo>
                <a:cubicBezTo>
                  <a:pt x="1302" y="66"/>
                  <a:pt x="1366" y="83"/>
                  <a:pt x="1430" y="104"/>
                </a:cubicBezTo>
                <a:cubicBezTo>
                  <a:pt x="1445" y="109"/>
                  <a:pt x="1459" y="113"/>
                  <a:pt x="1474" y="118"/>
                </a:cubicBezTo>
                <a:cubicBezTo>
                  <a:pt x="1489" y="123"/>
                  <a:pt x="1518" y="133"/>
                  <a:pt x="1518" y="133"/>
                </a:cubicBezTo>
                <a:cubicBezTo>
                  <a:pt x="1533" y="148"/>
                  <a:pt x="1546" y="165"/>
                  <a:pt x="1563" y="177"/>
                </a:cubicBezTo>
                <a:cubicBezTo>
                  <a:pt x="1576" y="186"/>
                  <a:pt x="1595" y="182"/>
                  <a:pt x="1607" y="192"/>
                </a:cubicBezTo>
                <a:cubicBezTo>
                  <a:pt x="1703" y="268"/>
                  <a:pt x="1571" y="213"/>
                  <a:pt x="1681" y="251"/>
                </a:cubicBezTo>
                <a:cubicBezTo>
                  <a:pt x="1756" y="367"/>
                  <a:pt x="1659" y="230"/>
                  <a:pt x="1755" y="325"/>
                </a:cubicBezTo>
                <a:cubicBezTo>
                  <a:pt x="1790" y="360"/>
                  <a:pt x="1801" y="417"/>
                  <a:pt x="1829" y="458"/>
                </a:cubicBezTo>
                <a:cubicBezTo>
                  <a:pt x="1854" y="536"/>
                  <a:pt x="1853" y="560"/>
                  <a:pt x="1784" y="606"/>
                </a:cubicBezTo>
                <a:cubicBezTo>
                  <a:pt x="1522" y="582"/>
                  <a:pt x="1264" y="519"/>
                  <a:pt x="1002" y="488"/>
                </a:cubicBezTo>
                <a:cubicBezTo>
                  <a:pt x="868" y="443"/>
                  <a:pt x="1001" y="483"/>
                  <a:pt x="691" y="458"/>
                </a:cubicBezTo>
                <a:cubicBezTo>
                  <a:pt x="656" y="455"/>
                  <a:pt x="622" y="449"/>
                  <a:pt x="588" y="443"/>
                </a:cubicBezTo>
                <a:cubicBezTo>
                  <a:pt x="568" y="439"/>
                  <a:pt x="549" y="431"/>
                  <a:pt x="529" y="428"/>
                </a:cubicBezTo>
                <a:cubicBezTo>
                  <a:pt x="366" y="407"/>
                  <a:pt x="203" y="393"/>
                  <a:pt x="42" y="355"/>
                </a:cubicBezTo>
                <a:cubicBezTo>
                  <a:pt x="25" y="305"/>
                  <a:pt x="43" y="310"/>
                  <a:pt x="12" y="310"/>
                </a:cubicBezTo>
                <a:close/>
              </a:path>
            </a:pathLst>
          </a:custGeom>
          <a:noFill/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0"/>
          <p:cNvSpPr/>
          <p:nvPr/>
        </p:nvSpPr>
        <p:spPr>
          <a:xfrm>
            <a:off x="5148360" y="1325520"/>
            <a:ext cx="338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9"/>
                </a:solidFill>
                <a:latin typeface="Constantia"/>
              </a:rPr>
              <a:t>Passive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1"/>
          <p:cNvSpPr/>
          <p:nvPr/>
        </p:nvSpPr>
        <p:spPr>
          <a:xfrm>
            <a:off x="5148360" y="342108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nstantia"/>
              </a:rPr>
              <a:t>active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42876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Arial"/>
                <a:ea typeface="Arial"/>
              </a:rPr>
              <a:t>Pharynx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9" descr="uchr_01_img0033"/>
          <p:cNvPicPr/>
          <p:nvPr/>
        </p:nvPicPr>
        <p:blipFill>
          <a:blip r:embed="rId1"/>
          <a:stretch/>
        </p:blipFill>
        <p:spPr>
          <a:xfrm>
            <a:off x="571680" y="1357200"/>
            <a:ext cx="4751280" cy="522792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24"/>
          <p:cNvSpPr/>
          <p:nvPr/>
        </p:nvSpPr>
        <p:spPr>
          <a:xfrm>
            <a:off x="3857760" y="3286080"/>
            <a:ext cx="576000" cy="2303640"/>
          </a:xfrm>
          <a:prstGeom prst="rect">
            <a:avLst/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57880" y="1785960"/>
            <a:ext cx="335736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It s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primarily a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ube conn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he larynx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he oral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nasal ca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vocal tract (lower)"/>
          <p:cNvPicPr/>
          <p:nvPr/>
        </p:nvPicPr>
        <p:blipFill>
          <a:blip r:embed="rId1"/>
          <a:stretch/>
        </p:blipFill>
        <p:spPr>
          <a:xfrm>
            <a:off x="928800" y="1643040"/>
            <a:ext cx="4572000" cy="41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6" name="2 CuadroTexto"/>
          <p:cNvSpPr/>
          <p:nvPr/>
        </p:nvSpPr>
        <p:spPr>
          <a:xfrm>
            <a:off x="2071800" y="500040"/>
            <a:ext cx="414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49e"/>
                </a:solidFill>
                <a:latin typeface="Constantia"/>
              </a:rPr>
              <a:t>The To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3 CuadroTexto"/>
          <p:cNvSpPr/>
          <p:nvPr/>
        </p:nvSpPr>
        <p:spPr>
          <a:xfrm>
            <a:off x="5857920" y="1428840"/>
            <a:ext cx="3000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the most important articulato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4 CuadroTexto"/>
          <p:cNvSpPr/>
          <p:nvPr/>
        </p:nvSpPr>
        <p:spPr>
          <a:xfrm>
            <a:off x="5786280" y="3000240"/>
            <a:ext cx="285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can be moved to many different plac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5 CuadroTexto"/>
          <p:cNvSpPr/>
          <p:nvPr/>
        </p:nvSpPr>
        <p:spPr>
          <a:xfrm>
            <a:off x="5857920" y="4714920"/>
            <a:ext cx="2571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divided into 6 p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5"/>
          <p:cNvSpPr/>
          <p:nvPr/>
        </p:nvSpPr>
        <p:spPr>
          <a:xfrm>
            <a:off x="78588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990099"/>
                </a:solidFill>
                <a:latin typeface="Arial"/>
                <a:ea typeface="Arial"/>
              </a:rPr>
              <a:t>(Hard ) Pa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Palatal articulation"/>
          <p:cNvPicPr/>
          <p:nvPr/>
        </p:nvPicPr>
        <p:blipFill>
          <a:blip r:embed="rId1"/>
          <a:stretch/>
        </p:blipFill>
        <p:spPr>
          <a:xfrm>
            <a:off x="1143000" y="1714680"/>
            <a:ext cx="4071960" cy="3929040"/>
          </a:xfrm>
          <a:prstGeom prst="rect">
            <a:avLst/>
          </a:prstGeom>
          <a:ln w="0">
            <a:noFill/>
          </a:ln>
        </p:spPr>
      </p:pic>
      <p:sp>
        <p:nvSpPr>
          <p:cNvPr id="532" name="Oval 10"/>
          <p:cNvSpPr/>
          <p:nvPr/>
        </p:nvSpPr>
        <p:spPr>
          <a:xfrm rot="3173400">
            <a:off x="2859840" y="2343960"/>
            <a:ext cx="792000" cy="9367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4 CuadroTexto"/>
          <p:cNvSpPr/>
          <p:nvPr/>
        </p:nvSpPr>
        <p:spPr>
          <a:xfrm>
            <a:off x="5715000" y="2286000"/>
            <a:ext cx="3214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Also called  the “roof of the mouth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5 Rectángulo"/>
          <p:cNvSpPr/>
          <p:nvPr/>
        </p:nvSpPr>
        <p:spPr>
          <a:xfrm>
            <a:off x="5786280" y="3714840"/>
            <a:ext cx="2928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a curved surfaced .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785880" y="2858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cc"/>
                </a:solidFill>
                <a:latin typeface="Arial"/>
                <a:ea typeface="Arial"/>
              </a:rPr>
              <a:t>Velum/ Soft Palate</a:t>
            </a:r>
            <a:r>
              <a:rPr b="1" lang="en-US" sz="5000" spc="-1" strike="noStrike">
                <a:solidFill>
                  <a:srgbClr val="666666"/>
                </a:solidFill>
                <a:latin typeface="Arial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1295280" y="500076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nstantia"/>
              </a:rPr>
              <a:t>It is located between the pharynx and the hard palate.  It controls the airflow into the nasal cav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Velar"/>
          <p:cNvPicPr/>
          <p:nvPr/>
        </p:nvPicPr>
        <p:blipFill>
          <a:blip r:embed="rId1"/>
          <a:stretch/>
        </p:blipFill>
        <p:spPr>
          <a:xfrm>
            <a:off x="1357200" y="1428840"/>
            <a:ext cx="4464000" cy="3512880"/>
          </a:xfrm>
          <a:prstGeom prst="rect">
            <a:avLst/>
          </a:prstGeom>
          <a:ln w="0">
            <a:noFill/>
          </a:ln>
        </p:spPr>
      </p:pic>
      <p:sp>
        <p:nvSpPr>
          <p:cNvPr id="538" name="Oval 10"/>
          <p:cNvSpPr/>
          <p:nvPr/>
        </p:nvSpPr>
        <p:spPr>
          <a:xfrm rot="3173400">
            <a:off x="4002840" y="2058120"/>
            <a:ext cx="792000" cy="9367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6215040" y="2214720"/>
            <a:ext cx="252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g/</a:t>
            </a:r>
            <a:r>
              <a:rPr b="0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k/</a:t>
            </a:r>
            <a:r>
              <a:rPr b="0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 ŋ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3"/>
          <p:cNvSpPr/>
          <p:nvPr/>
        </p:nvSpPr>
        <p:spPr>
          <a:xfrm>
            <a:off x="785880" y="642960"/>
            <a:ext cx="80010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nstantia"/>
              </a:rPr>
              <a:t>Unlike he hard palate, which is made of bone, the soft palate is made of muscle and soft tissue.</a:t>
            </a:r>
            <a:r>
              <a:rPr b="1" lang="en-US" sz="3200" spc="-1" strike="noStrike">
                <a:solidFill>
                  <a:srgbClr val="660066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When it is lowered it allows air to flow into the nasal cavity and exit through the nose.  When it is raised the air can enter the oral cavity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20:48:34Z</dcterms:created>
  <dc:creator>Administrador</dc:creator>
  <dc:description/>
  <dc:language>en-US</dc:language>
  <cp:lastModifiedBy>Carina</cp:lastModifiedBy>
  <dcterms:modified xsi:type="dcterms:W3CDTF">2013-06-01T02:37:45Z</dcterms:modified>
  <cp:revision>19</cp:revision>
  <dc:subject/>
  <dc:title>Diapositiva 1</dc:title>
</cp:coreProperties>
</file>