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EB5-CD9E-4017-B97C-3D0E5B28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20A-E7B8-4A06-8BB4-5409ED5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1A71-DCEC-4FC8-8C52-8C1C505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15A36-BA59-4C55-B68B-7206B56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9BBE9-68A7-465F-9822-0A9DF206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B3770-5543-4B4C-B646-DECB4BE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513CC-CC81-411A-A6D2-DB84233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2C12-FA93-4BFE-896B-453C2B5B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F3416-CD0F-4ACA-83C9-8617C2A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AC0F7-1014-4A77-8DEA-4BE38D0C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ACE8-BB69-4FEF-9CCA-3721DE4E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586E5-424F-48A2-91DE-5314B29F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AC4-6962-4EC8-A0BE-E837D0FF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44A9B-245E-498F-987A-50E265B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538AE-9C40-4EE6-9381-EAB70731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B8AE7-AFDE-4F96-9F88-C057949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6171F-A291-49D5-8B87-7291B592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EFDB4-8B78-4342-9986-615BAF7D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0427-EFF2-4BA5-AACC-6708E2D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1ABC2-5935-4921-8415-4F91493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112F5-5110-405B-9835-06D85F4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A4909-4530-4EE5-AE34-5DA84EF4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B1763-50E1-4EE8-A2F6-788AEE53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181-F730-4B02-AAFB-CEB3DDBE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8EF42-B5CB-4AE0-97DD-CC2EB7A2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BE7E-4718-4789-AF4E-243DBD41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97627-3CA5-49E6-B5E6-07BCBC7F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0471C-E5AB-4963-9F02-36C12BD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9B33A-0C68-47AE-8F64-43C22B2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8FDC9-32CE-421F-9E80-CC403AFE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FA79-D3D8-437B-A814-2789732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37B9-4736-488A-BDFA-2354A351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4CB6D-5A47-4452-9AAD-B35F0465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FBCBD-646B-426C-93EE-6D744CD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0A3-D7FC-4DA4-A935-8CBE8758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C3631-7D17-48E0-9CB8-F58C39B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45646-C9F1-42A0-989A-7E208046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3201-686E-46C3-B6BF-24A9692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C3A80-543F-43C3-B154-3C4935F7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43554-AEC8-40D0-9565-E61F4E00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2CD60-5BF1-4912-B447-65B48D0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925E1-72F8-4976-BBA6-4752C9FE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6B571-250E-4DF8-8C13-93ABA5BD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0497F-07AC-4A28-BEB2-F8478731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875D-0189-4F01-8A2E-89F6BEF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A255-AD29-43B3-BB40-7995C115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B7452-DCD9-4CE8-9D32-50FAD69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34523-C91D-4C1A-BDC1-06FEE4D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01601-C138-4329-90BD-6CBEB7F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4249C-40D0-4C9C-80D0-C5156792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73920-0181-46C5-96E4-8DC5334A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F2B-5271-4F58-A292-F42D6DC4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DCD-6B5E-482D-B823-FE2DB67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21ED-73C2-416B-99B9-52C0C275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C9F1-EFED-40D8-8209-21B466F1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87E0-8526-4036-9E7B-0322E10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5F7-22AE-448D-AF9C-D687D64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A2F-D42A-45AE-8DC7-42CCA8A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607-F819-4B29-973B-5B802E32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2E79-D3FC-4E96-8FC5-1A0280A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BE5-F817-4361-8844-16AEE52B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616-7C6C-425D-83A3-3FCF4FD5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5AC5-E1A4-4CFC-B702-F5C45745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8F36-8212-4ADA-8467-EA2DC88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A120-CDBC-43A2-B698-C5D1D27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1C56-872D-4F71-91DF-488B317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9F9A-4030-4355-AFD2-2C8D56D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A6C-11F2-4AC0-B417-8F8200B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6AA4-033C-43A9-B7C6-88586FA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974C-E15D-4C65-8872-D008648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9800-EE94-491E-A27D-649CE23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D0B9-D36B-4CCE-ACA7-CB418C0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035C-F588-40B3-89E6-2E21AF4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40E4-397C-4E6C-A76C-6D488DE6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178C-AA10-4EEC-A197-15467A65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302E-46E7-4E3B-9CF3-EB216D82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C711-EFE1-4AFA-8EBC-A089BBCC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88D0-BCC9-4459-8B02-1AD0B56B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BC-010C-472F-9988-3297054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4EB9-FD1B-413D-9A3E-287EE11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9A42-1AB0-40A8-A790-38C0B874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FF3C-DB78-4FB5-9590-5944815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E78C-A25A-4DAB-9626-44FD01D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53FF-C2A1-4B80-ABE0-EBD7608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E123-DDBF-44E5-9441-F9096FE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1EE0-0CF8-4507-99DB-1F84E0B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2285-50C6-483F-BBF8-F791015F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90EF-6909-45AB-9F5A-99960B01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F7ED-C0E4-45D9-A5BE-EE9EBAF5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4CD-CEBC-4E40-B1C7-0A5D166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1A4A-E75D-43DC-9056-1FB42076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A81D-A89A-4D59-B6F6-790B2CD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DE56-8A70-418F-B784-D44858CE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95F2-3D0E-4860-A0A2-F520E651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0AF2-CB13-4657-9DBD-F1B3834A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EB0D-4C8D-422E-A0B6-E5F45D3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4852-F221-44BC-A9F9-E6793CA6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038B6-2D90-4A99-A694-5AECB83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2F3C-47CE-421F-B4EA-9FE0E19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ED93-DF74-4444-B282-D44B6674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727-77A5-463C-966A-7507419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0C044-F3A3-4A29-9092-7C8B906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457F-D317-47DA-AA2F-73FE9F19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02D8F-C10D-418F-9F57-F8903C2A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7721-3ED1-4C56-BFEB-FB28A00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6C03-E06A-463B-B78C-A43B9574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8796-98D6-45A6-83CF-2998D02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37D72-6FF9-4884-85C4-D147AF47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C693B-6691-44D1-83F7-45903DAE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172F-A8AD-4D9C-AA4A-C7E3316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8713-811D-42CD-9258-5D6A31F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CDA-364C-462E-AAE2-3C4A1AF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85BC3-7457-4601-A42C-FA3681C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A270-C82E-4A38-AD86-77BA2FC7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938EF-8918-42B7-981E-6767D2AB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2AF0-AC38-4F62-B3B0-37652C99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172F-C94E-41BB-8A93-041ABBD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1268D-DD04-4335-8434-64508AA6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3D2D-B6D9-4B64-9449-185668D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D90C4-7FAE-4AF0-9CBC-D927233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BD114-4EF1-46EC-A55F-1CAD7FA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AA89-2AA4-490E-B06F-8C4222F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D0D-A7D1-456C-A0AA-197046B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D534-739C-4FD3-970B-91193A4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54BB-5699-47B9-A836-84680DB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37DC-B052-4537-A099-5063C9DE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3345-44E2-4BCD-A2E7-6877EEC7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7702-9DD6-4AC8-9176-D1A72A95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E8ACC-9CAC-4BFA-9DC5-18503255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610C-3DA2-40B7-84EF-B2E97D9E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1C220-E09C-411B-BD1C-EF8FA029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B62E-7475-470E-BB97-A3696337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855CD-376B-4BD2-983E-4769A9AE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4A8-43EB-474D-AADF-D95D660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249BE-FE5D-4AD4-9D89-F2E64B02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56628-884F-4669-A7E6-B05A977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1F28-EAEE-4B6B-86FE-59EFAB1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42A97-B601-486C-BDBA-21A3FA1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2EC5-2CB6-4FD4-BBC0-9EA731B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27CA0-7DF4-4EC7-AC44-58548187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7432-0C81-477A-83A0-226B31EC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E1DC3-FEF9-474A-BC7F-1E88290F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DAC8-E0A4-4CD2-9E5D-92B28F9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FE3A-EE38-4C0E-A69E-06F0752F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6EF-6994-4AD0-B16A-66FB02040308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1C2-3251-4B29-AD6D-0EFD9789D6A5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7E89-4BD5-4C62-8793-31779E8F4778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4D1-7AFE-4844-8A90-F225FE1624E0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5073-A43A-469D-9438-368009054335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2C2B-9D8B-434E-A35A-934F9C080499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A7C-4F77-4B70-AF39-AAA6829317BF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8F8-1F61-4AC2-8374-82FE69BE9A15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7B5-0846-4293-954F-0586FBC99F3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5BBF-F4A6-4809-BEDD-53F90B68599E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F4C2-E3CC-400F-B6AC-25C70DE99355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753-C798-4045-A000-58BAF318728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vocal tract (lower)"/>
          <p:cNvPicPr/>
          <p:nvPr/>
        </p:nvPicPr>
        <p:blipFill>
          <a:blip r:embed="rId1"/>
          <a:stretch/>
        </p:blipFill>
        <p:spPr>
          <a:xfrm>
            <a:off x="914400" y="1633680"/>
            <a:ext cx="4595760" cy="4163760"/>
          </a:xfrm>
          <a:prstGeom prst="rect">
            <a:avLst/>
          </a:prstGeom>
          <a:ln w="0">
            <a:noFill/>
          </a:ln>
        </p:spPr>
      </p:pic>
      <p:sp>
        <p:nvSpPr>
          <p:cNvPr id="543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speech-organs"/>
          <p:cNvPicPr/>
          <p:nvPr/>
        </p:nvPicPr>
        <p:blipFill>
          <a:blip r:embed="rId1"/>
          <a:srcRect l="3003" t="2246" r="38619" b="2728"/>
          <a:stretch/>
        </p:blipFill>
        <p:spPr>
          <a:xfrm>
            <a:off x="857160" y="1500120"/>
            <a:ext cx="4179960" cy="46069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143000" y="1785960"/>
            <a:ext cx="3825720" cy="1838160"/>
          </a:xfrm>
          <a:custGeom>
            <a:avLst/>
            <a:gdLst>
              <a:gd name="textAreaLeft" fmla="*/ 0 w 3825720"/>
              <a:gd name="textAreaRight" fmla="*/ 3826080 w 3825720"/>
              <a:gd name="textAreaTop" fmla="*/ 0 h 1838160"/>
              <a:gd name="textAreaBottom" fmla="*/ 1838520 h 183816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5292720" y="170028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5292720" y="350028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500120" y="2786040"/>
            <a:ext cx="2943360" cy="961920"/>
          </a:xfrm>
          <a:custGeom>
            <a:avLst/>
            <a:gdLst>
              <a:gd name="textAreaLeft" fmla="*/ 0 w 2943360"/>
              <a:gd name="textAreaRight" fmla="*/ 2943720 w 294336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364000" y="1125360"/>
            <a:ext cx="33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761080" y="306864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1. 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27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3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5-02T20:24:09Z</dcterms:modified>
  <cp:revision>15</cp:revision>
  <dc:subject/>
  <dc:title>Diapositiva 1</dc:title>
</cp:coreProperties>
</file>