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13.png" ContentType="image/png"/>
  <Override PartName="/ppt/media/image10.png" ContentType="image/png"/>
  <Override PartName="/ppt/media/image6.jpeg" ContentType="image/jpeg"/>
  <Override PartName="/ppt/media/image7.png" ContentType="image/png"/>
  <Override PartName="/ppt/media/image12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CB6D-1929-43BD-80FD-8AABB7692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F1DB-8719-4003-B89C-E216FF868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D10634-479C-471B-9A12-C8929C27C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5ABBCF-9F73-41C9-948A-7943E40D2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E98202-18FB-4A78-8B77-5F1DFC70C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7B8E5F-7439-4FB3-A07A-50A8C8767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C2FD68-4A9B-4A2E-A5EB-19B283026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AC267B-C2D1-4853-BA27-0E2372363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9CB193-478C-4F1A-B4D9-A9ED15F9B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CBDA0F-5C9F-46C1-9EC1-1F350BCE7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AB5D60-C8B5-47C5-B372-83F1EC42B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11DE2E-6D89-426A-914E-E8593A67C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7175-3382-471E-88A3-BBDCA955C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CA403D-30B7-4CFA-99CA-6F2EBD862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CFC7AE-435B-42F5-B98C-1E85C5241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70E03E-6769-40E0-A495-F134C6438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4B4361-0281-4CE4-BB0B-082ABF92D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0FA1B6-6495-470B-B40E-3D9F14745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940DD8-BDEF-450A-B382-E6F20F428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012F95-C7BB-4D84-91A9-952516E1C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8CCF64-E7F9-4846-A756-EC01009C6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E1C7AE-8C40-46DA-856A-1907B379A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54C83D-2B41-4925-B6A3-5531362B6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0E20-A6EF-4B59-8C84-DD4E2B93A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70F7B5-AD2C-4E36-9CDD-5EF90C298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F2B43C-7F57-4ECC-A105-E8BE9E28D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1686BA-AED9-4C12-95BF-0BED9C2F2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498C8E-CD02-47DD-9F26-BCD3AF933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8F0E85-2D6B-48B9-839A-3F0236E70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AF185B-5A30-4C81-92B1-726E3A59C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A85C91-89D9-4217-BCE1-93A8AC4F2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880124-3726-4F1C-AB8C-54965101E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762636-F810-49DF-B4DE-B92841CC7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16B305-B5AE-4473-B89F-D9575A1E8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0BCDE-A4AA-436C-B540-27B8BD5E3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A87AC7-A210-41F4-B70F-A279CE896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468963-EDB7-4BAB-8734-0D1BEEB2D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9544EF-7FB2-41CA-96FB-BF57B30D8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01C9E2-4BC2-4657-91D9-B2BB3303C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760018-9741-4FC8-B743-14307A589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B30F48-9CD8-4D1C-A6B7-22DE819E2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7D3C5C-377E-4ED7-B421-65431ECD8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C9FA0B-A8A2-4C96-8F0E-ACCA2454A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2D7190-85AE-4963-9808-6BA816764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090B37-6626-4D33-8F8B-3BD455002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A2DF9-121B-4F8B-9C0E-C4BF9211C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45F14D-F273-4888-A8E0-2E377966C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4B4981-4E2F-49B1-9409-6DB0EE74C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DEA5D2-A5C9-4E39-8622-4014CADA6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1ACEB7-796C-46F7-A88C-AE1FFA38D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25D3E5-2C8E-4CDD-96C1-2F0222B3F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C3EF2-EB11-46AC-BDC4-736CAF83F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5FA90-6062-4AF0-9CD8-36A94D292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972F3-B0F7-4E7E-9E95-90FEAEEA6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77AF7-5D89-41F6-808F-390AF2901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8BBFF-85DC-4837-88B9-420132693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B747-9394-404E-A095-515C5497A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4B495-54AD-4DD0-870B-DB16369ED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40598-DAA4-41E8-BF26-70EFB81D7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88F45-07E6-4772-9BDA-E2836DD07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22995-3172-4F9A-AE62-D40B111DE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62A66-5FCE-4AC9-8DD2-D84A5319C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EE407B-60B1-4C68-8535-40FC67AA5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12C802-4CC2-41B1-BAD8-24DBCB54E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03AB5D-0B06-4F14-8BFC-C2552690B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D5096A-D150-4E25-AD25-9AC4D2E5C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E8122A-7222-46B6-80C1-32B311BF3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FAA4-A987-4554-9C92-465CDD973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5EFAF3-4A0D-4FC2-ACE6-8351A1891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2D3AAD-EF7A-4147-9910-5DAF094BD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0393D8-54D5-49F7-99C0-8157ACDC7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2B535D-19FA-4181-A8EB-53DA4B3ED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DB570A-53B8-4941-A921-9C9FB3231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8B6E99-8495-4436-A195-EC6913A85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35A16C-5042-4CE2-991B-BFA67AE6E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40553F-1B22-47A4-AC11-6EFAB1A0D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1A8EC2-AFC6-436C-83D2-366B084E2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601BF5-27D0-4605-9EAF-06B2C60CF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7336-73EF-4AF7-B306-0D675B50C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A4AD72-8288-424D-8752-1AB21ECD6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E751D6-E957-4A92-BCE3-A79F9A082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7A7B34-8EB8-484A-B199-20E17DEA1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F19EBA-1682-48C5-8F9F-F08D3E27B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3D4104-C81B-4918-BEA1-50DE4A3E9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012091-4A4E-462F-850F-28C6132D3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05C978-85A8-471A-8BEE-3AF70E04A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820519-FCD1-4AE4-8006-4217429E6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049A7F-D967-4544-83A3-9C2D337F8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251E29-E4C9-460D-A69E-54E98F238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E47E-2169-43DA-A519-06E1D27BE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B1A971-097B-41C1-AFA3-996B4CDF4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75122C-0334-43C7-9F41-C044FF9C1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75E7F6-DCC4-493C-8B0A-B01675707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81278A-DA69-4EF4-A722-A48E5C1D6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2484E8-FDB4-42A4-A0EB-473E7C8C2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A4D2EC-3F93-4A16-B644-47D2675E0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075CB0-1543-44EC-8C85-C504C1183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F38B56-6B1C-4ED8-81D3-20194B7D0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451A04-CD6E-4F9F-B5E2-10C9B81AB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522134-F28B-4380-8723-AD24AF930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EEF7-645E-4ECC-BAE5-578534602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7791AD-B447-41C7-A1CD-FBF90161A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F88B1C-B2D8-473B-BC9A-C19899E6B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1994D5-E9A7-442C-ABBB-67515056A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EE725A-0B51-4EC2-B86E-7ED62731D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AD6114-C42D-4549-BDB2-7EFCECAB4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52B3A2-7E91-41A1-BFFC-D59834481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16E517-C1B9-4588-B06E-8644731C5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ED6C9D-5F3D-4833-A2AE-BAA5A3950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777528-D31D-457E-82C8-22F600065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4B8F09-010A-4D31-8399-0D6F995BA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E196-D4C7-41AA-8000-3B0F75743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11860F-7C78-488D-9842-5B6B7BD60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8E4D0D-EFA6-446D-AB67-ECA0CF3EB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D47D2A-D6F5-4086-B129-AE4FF3528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270064-DC9B-4870-86C7-629DF803C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BEA878-13BC-4365-8BFB-025EE9CED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8F99F8-733A-4FB4-A9B4-A7EF0D31F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E1EA9D-601C-4303-9C98-344C24ECF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F38535-3F22-46E5-9F13-D1C4E849B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A9DA13-8DA2-4C28-89D2-DFF8313CF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34E883-1EF9-463F-8E4C-40E3C41B1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EF7D-BF58-4386-AD44-B6B2C3E99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E737BC-CB2D-43F8-9AB3-49E9DE003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031999-27F2-4259-9247-7690EC4A7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64AF68-7F48-494A-839C-B5B6D3F86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8200C7-A2F3-4A79-87DD-9973C8081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9B19E6-76A6-444A-83C6-0060FFF8F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E3CDCC-0B18-4552-961E-DEFEB688E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AFAC9D-6DC1-44A1-AF31-E636575A6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2E9ED9-9847-45F4-B2DF-0FC693613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B71733-D4F4-4113-B697-7D9A3C8D1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1120A4-2E9B-4AF4-BB6A-3E7404C15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74E4-FA71-41AD-8615-55097FBFF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326367-DE9E-4BFD-A9FB-078A438BB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0DD4E7-6F96-446B-93B1-A63C47BC3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212D73-9F72-4D93-8E2A-47DE337D8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8C255B-1B77-4F41-8F6E-4E70B492F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833B22-308E-4800-B4C8-C15A329C2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730D6E-686F-4549-B883-D6C9C7B1D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2C7926-F021-45D1-876C-8EAAD76B7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63E4AF-E0ED-445B-BE47-58C207767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BFDC1D-8818-4183-99F6-0A669EFDE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6E4AC3-D6D3-410A-9A01-49AE26821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6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Forma libre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8003b">
                  <a:alpha val="45098"/>
                </a:srgbClr>
              </a:gs>
              <a:gs pos="100000">
                <a:srgbClr val="b4008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Forma libre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820066">
                  <a:alpha val="45098"/>
                </a:srgbClr>
              </a:gs>
              <a:gs pos="100000">
                <a:srgbClr val="f1004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666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3800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4005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c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8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616161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616161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616161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22809-C52B-4BD2-B734-8A50427ED574}" type="slidenum">
              <a:rPr b="0" lang="es-MX" sz="1200" spc="-1" strike="noStrike">
                <a:solidFill>
                  <a:srgbClr val="616161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Forma libre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11 Forma libre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12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6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13 Recortar y redondear rectángulo de esquina sencilla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14 Triángulo rectángulo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15 Forma libre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8003b">
                  <a:alpha val="45098"/>
                </a:srgbClr>
              </a:gs>
              <a:gs pos="100000">
                <a:srgbClr val="b4008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16 Forma libre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820066">
                  <a:alpha val="45098"/>
                </a:srgbClr>
              </a:gs>
              <a:gs pos="100000">
                <a:srgbClr val="f1004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666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3800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4005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c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8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616161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616161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ftr" idx="2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sldNum" idx="30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616161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14BD8-9429-48C8-8093-B8061724824B}" type="slidenum">
              <a:rPr b="0" lang="es-MX" sz="1200" spc="-1" strike="noStrike">
                <a:solidFill>
                  <a:srgbClr val="616161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6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666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3800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4005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c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8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616161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616161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 type="ftr" idx="3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 type="sldNum" idx="3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616161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2CC83-D684-41A0-A396-E2556C487F89}" type="slidenum">
              <a:rPr b="0" lang="es-MX" sz="1200" spc="-1" strike="noStrike">
                <a:solidFill>
                  <a:srgbClr val="616161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6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666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3800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4005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c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8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616161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616161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 type="ftr" idx="3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 type="sldNum" idx="3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616161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1E864-D2FD-45F4-90CE-B7664576032A}" type="slidenum">
              <a:rPr b="0" lang="es-MX" sz="1200" spc="-1" strike="noStrike">
                <a:solidFill>
                  <a:srgbClr val="616161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6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2d2d2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2d2d2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3800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4005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c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8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c8c8c8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c8c8c8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c8c8c8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AD39C-37B3-45AF-8591-79AB58815E18}" type="slidenum">
              <a:rPr b="0" lang="es-MX" sz="1200" spc="-1" strike="noStrike">
                <a:solidFill>
                  <a:srgbClr val="c8c8c8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6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666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3800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4005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c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8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616161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616161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616161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60E53-B84E-406F-9119-4D2777DA9B83}" type="slidenum">
              <a:rPr b="0" lang="es-MX" sz="1200" spc="-1" strike="noStrike">
                <a:solidFill>
                  <a:srgbClr val="616161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6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2d2d2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2d2d2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3800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4005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c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8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c8c8c8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c8c8c8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c8c8c8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9BB63-6E9D-4776-AF30-E4B7BC4411A0}" type="slidenum">
              <a:rPr b="0" lang="es-MX" sz="1200" spc="-1" strike="noStrike">
                <a:solidFill>
                  <a:srgbClr val="c8c8c8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6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666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3800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4005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c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8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616161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616161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616161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A33C8-DB96-431D-BA50-92827822FC80}" type="slidenum">
              <a:rPr b="0" lang="es-MX" sz="1200" spc="-1" strike="noStrike">
                <a:solidFill>
                  <a:srgbClr val="616161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6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666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3800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4005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c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8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616161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616161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616161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CE53F-2B15-4A59-9FCD-70BD58EA2BC2}" type="slidenum">
              <a:rPr b="0" lang="es-MX" sz="1200" spc="-1" strike="noStrike">
                <a:solidFill>
                  <a:srgbClr val="616161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6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666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3800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4005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c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8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616161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616161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ftr" idx="2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sldNum" idx="2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616161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09564-681A-4392-B84A-BFF52AAE2C17}" type="slidenum">
              <a:rPr b="0" lang="es-MX" sz="1200" spc="-1" strike="noStrike">
                <a:solidFill>
                  <a:srgbClr val="616161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6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666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3800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4005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c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8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616161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616161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ftr" idx="2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sldNum" idx="24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616161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F277A-384A-4A4B-833F-6E44843AF3E5}" type="slidenum">
              <a:rPr b="0" lang="es-MX" sz="1200" spc="-1" strike="noStrike">
                <a:solidFill>
                  <a:srgbClr val="616161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6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666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3800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4005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c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8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616161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616161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7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616161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3B1E1-320C-49FD-98C0-27C578990A2B}" type="slidenum">
              <a:rPr b="0" lang="es-MX" sz="1200" spc="-1" strike="noStrike">
                <a:solidFill>
                  <a:srgbClr val="616161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2 Rectángulo" descr=""/>
          <p:cNvPicPr/>
          <p:nvPr/>
        </p:nvPicPr>
        <p:blipFill>
          <a:blip r:embed="rId1"/>
          <a:stretch/>
        </p:blipFill>
        <p:spPr>
          <a:xfrm>
            <a:off x="1212840" y="1487520"/>
            <a:ext cx="700416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Picture 6" descr="vocal tract (lower)"/>
          <p:cNvPicPr/>
          <p:nvPr/>
        </p:nvPicPr>
        <p:blipFill>
          <a:blip r:embed="rId1"/>
          <a:stretch/>
        </p:blipFill>
        <p:spPr>
          <a:xfrm>
            <a:off x="914400" y="1633680"/>
            <a:ext cx="4595760" cy="4163760"/>
          </a:xfrm>
          <a:prstGeom prst="rect">
            <a:avLst/>
          </a:prstGeom>
          <a:ln w="0">
            <a:noFill/>
          </a:ln>
        </p:spPr>
      </p:pic>
      <p:sp>
        <p:nvSpPr>
          <p:cNvPr id="543" name="2 CuadroTexto"/>
          <p:cNvSpPr/>
          <p:nvPr/>
        </p:nvSpPr>
        <p:spPr>
          <a:xfrm>
            <a:off x="2071800" y="500040"/>
            <a:ext cx="4143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349e"/>
                </a:solidFill>
                <a:latin typeface="Constantia"/>
              </a:rPr>
              <a:t>The Tong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3 CuadroTexto"/>
          <p:cNvSpPr/>
          <p:nvPr/>
        </p:nvSpPr>
        <p:spPr>
          <a:xfrm>
            <a:off x="5857920" y="1428840"/>
            <a:ext cx="300024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nstantia"/>
              </a:rPr>
              <a:t>It is the most important articulator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4 CuadroTexto"/>
          <p:cNvSpPr/>
          <p:nvPr/>
        </p:nvSpPr>
        <p:spPr>
          <a:xfrm>
            <a:off x="5786280" y="3000240"/>
            <a:ext cx="285768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nstantia"/>
              </a:rPr>
              <a:t>It can be moved to many different places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5 CuadroTexto"/>
          <p:cNvSpPr/>
          <p:nvPr/>
        </p:nvSpPr>
        <p:spPr>
          <a:xfrm>
            <a:off x="5857920" y="4714920"/>
            <a:ext cx="2571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nstantia"/>
              </a:rPr>
              <a:t>It is divided into 6 part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0" dur="2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Dental articulation"/>
          <p:cNvPicPr/>
          <p:nvPr/>
        </p:nvPicPr>
        <p:blipFill>
          <a:blip r:embed="rId1"/>
          <a:stretch/>
        </p:blipFill>
        <p:spPr>
          <a:xfrm>
            <a:off x="4286160" y="1571760"/>
            <a:ext cx="4071960" cy="3643200"/>
          </a:xfrm>
          <a:prstGeom prst="rect">
            <a:avLst/>
          </a:prstGeom>
          <a:ln w="0">
            <a:noFill/>
          </a:ln>
        </p:spPr>
      </p:pic>
      <p:sp>
        <p:nvSpPr>
          <p:cNvPr id="548" name="Rectangle 2"/>
          <p:cNvSpPr/>
          <p:nvPr/>
        </p:nvSpPr>
        <p:spPr>
          <a:xfrm>
            <a:off x="714240" y="500040"/>
            <a:ext cx="74296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40059"/>
                </a:solidFill>
                <a:latin typeface="Arial"/>
                <a:ea typeface="Arial"/>
              </a:rPr>
              <a:t> </a:t>
            </a:r>
            <a:r>
              <a:rPr b="1" lang="en-US" sz="5400" spc="-1" strike="noStrike">
                <a:solidFill>
                  <a:srgbClr val="e40059"/>
                </a:solidFill>
                <a:latin typeface="Arial"/>
                <a:ea typeface="Arial"/>
              </a:rPr>
              <a:t>The teet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3 CuadroTexto"/>
          <p:cNvSpPr/>
          <p:nvPr/>
        </p:nvSpPr>
        <p:spPr>
          <a:xfrm>
            <a:off x="500040" y="1643040"/>
            <a:ext cx="335772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nstantia"/>
              </a:rPr>
              <a:t>They are located at the front of the mouth immediately behind the lip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5 CuadroTexto"/>
          <p:cNvSpPr/>
          <p:nvPr/>
        </p:nvSpPr>
        <p:spPr>
          <a:xfrm>
            <a:off x="571680" y="3786120"/>
            <a:ext cx="350028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nstantia"/>
              </a:rPr>
              <a:t>For many speech sounds the tongue is in contact with the upper teeth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9"/>
          <p:cNvSpPr/>
          <p:nvPr/>
        </p:nvSpPr>
        <p:spPr>
          <a:xfrm>
            <a:off x="4143240" y="5357880"/>
            <a:ext cx="2786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/</a:t>
            </a:r>
            <a:r>
              <a:rPr b="1" lang="el-GR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θ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/, /ð/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2"/>
          <p:cNvSpPr/>
          <p:nvPr/>
        </p:nvSpPr>
        <p:spPr>
          <a:xfrm>
            <a:off x="785880" y="714240"/>
            <a:ext cx="8001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40059"/>
                </a:solidFill>
                <a:latin typeface="Arial"/>
                <a:ea typeface="Arial"/>
              </a:rPr>
              <a:t>The lip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Picture 5" descr="Bilabial articulation"/>
          <p:cNvPicPr/>
          <p:nvPr/>
        </p:nvPicPr>
        <p:blipFill>
          <a:blip r:embed="rId1"/>
          <a:stretch/>
        </p:blipFill>
        <p:spPr>
          <a:xfrm>
            <a:off x="5000760" y="1857240"/>
            <a:ext cx="3376440" cy="3429000"/>
          </a:xfrm>
          <a:prstGeom prst="rect">
            <a:avLst/>
          </a:prstGeom>
          <a:ln w="0">
            <a:noFill/>
          </a:ln>
        </p:spPr>
      </p:pic>
      <p:sp>
        <p:nvSpPr>
          <p:cNvPr id="554" name="5 CuadroTexto"/>
          <p:cNvSpPr/>
          <p:nvPr/>
        </p:nvSpPr>
        <p:spPr>
          <a:xfrm>
            <a:off x="1143000" y="1928880"/>
            <a:ext cx="3643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nstantia"/>
              </a:rPr>
              <a:t>They are very important in speech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6 CuadroTexto"/>
          <p:cNvSpPr/>
          <p:nvPr/>
        </p:nvSpPr>
        <p:spPr>
          <a:xfrm>
            <a:off x="1143000" y="3000240"/>
            <a:ext cx="3571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nstantia"/>
              </a:rPr>
              <a:t>The can be pressed together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7"/>
          <p:cNvSpPr/>
          <p:nvPr/>
        </p:nvSpPr>
        <p:spPr>
          <a:xfrm>
            <a:off x="1428840" y="4286160"/>
            <a:ext cx="28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/b/, /p/,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4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/m/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8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7" name="Picture 6" descr="Labiodental articulation"/>
          <p:cNvPicPr/>
          <p:nvPr/>
        </p:nvPicPr>
        <p:blipFill>
          <a:blip r:embed="rId1"/>
          <a:stretch/>
        </p:blipFill>
        <p:spPr>
          <a:xfrm>
            <a:off x="5143680" y="857160"/>
            <a:ext cx="3163680" cy="4143600"/>
          </a:xfrm>
          <a:prstGeom prst="rect">
            <a:avLst/>
          </a:prstGeom>
          <a:ln w="0">
            <a:noFill/>
          </a:ln>
        </p:spPr>
      </p:pic>
      <p:sp>
        <p:nvSpPr>
          <p:cNvPr id="558" name="2 CuadroTexto"/>
          <p:cNvSpPr/>
          <p:nvPr/>
        </p:nvSpPr>
        <p:spPr>
          <a:xfrm>
            <a:off x="714240" y="1143000"/>
            <a:ext cx="37864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nstantia"/>
              </a:rPr>
              <a:t>They can be brought into contact with the teet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10"/>
          <p:cNvSpPr/>
          <p:nvPr/>
        </p:nvSpPr>
        <p:spPr>
          <a:xfrm>
            <a:off x="1214280" y="3286080"/>
            <a:ext cx="2643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nstantia"/>
              </a:rPr>
              <a:t>/f/, /v/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1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1 Rectángulo" descr=""/>
          <p:cNvPicPr/>
          <p:nvPr/>
        </p:nvPicPr>
        <p:blipFill>
          <a:blip r:embed="rId1"/>
          <a:stretch/>
        </p:blipFill>
        <p:spPr>
          <a:xfrm>
            <a:off x="1500120" y="517680"/>
            <a:ext cx="6070680" cy="1847520"/>
          </a:xfrm>
          <a:prstGeom prst="rect">
            <a:avLst/>
          </a:prstGeom>
          <a:ln w="0">
            <a:noFill/>
          </a:ln>
        </p:spPr>
      </p:pic>
      <p:sp>
        <p:nvSpPr>
          <p:cNvPr id="507" name="2 Rectángulo"/>
          <p:cNvSpPr/>
          <p:nvPr/>
        </p:nvSpPr>
        <p:spPr>
          <a:xfrm>
            <a:off x="1285920" y="2857680"/>
            <a:ext cx="621504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The production of any speech sound involves the movement of an air stream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3 Rectángulo"/>
          <p:cNvSpPr/>
          <p:nvPr/>
        </p:nvSpPr>
        <p:spPr>
          <a:xfrm>
            <a:off x="1357200" y="4357800"/>
            <a:ext cx="628668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9900"/>
                </a:solidFill>
                <a:latin typeface="Constantia"/>
              </a:rPr>
              <a:t>Most speech sounds are produced by pushing the air out of the lungs through the mouth (oral) and sometimes through the nose (nasal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2"/>
          <p:cNvSpPr/>
          <p:nvPr/>
        </p:nvSpPr>
        <p:spPr>
          <a:xfrm>
            <a:off x="714240" y="428760"/>
            <a:ext cx="8001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  <a:ea typeface="Arial"/>
              </a:rPr>
              <a:t>Vocal Tr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3"/>
          <p:cNvSpPr/>
          <p:nvPr/>
        </p:nvSpPr>
        <p:spPr>
          <a:xfrm>
            <a:off x="714240" y="1214280"/>
            <a:ext cx="800100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Constantia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  <a:ea typeface="Arial"/>
              </a:rPr>
              <a:t>The airway used in the production of speech, especially the passage above the larynx, including the pharynx, mouth, and nasal cav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1" name="Picture 5" descr="Vocal tract mesh&#10;embedded with MRI"/>
          <p:cNvPicPr/>
          <p:nvPr/>
        </p:nvPicPr>
        <p:blipFill>
          <a:blip r:embed="rId1"/>
          <a:stretch/>
        </p:blipFill>
        <p:spPr>
          <a:xfrm>
            <a:off x="1428840" y="2786040"/>
            <a:ext cx="2305080" cy="352728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7" descr="Tract mesh for&#10;vowel e"/>
          <p:cNvPicPr/>
          <p:nvPr/>
        </p:nvPicPr>
        <p:blipFill>
          <a:blip r:embed="rId2"/>
          <a:stretch/>
        </p:blipFill>
        <p:spPr>
          <a:xfrm>
            <a:off x="4500720" y="3214800"/>
            <a:ext cx="285732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2"/>
          <p:cNvSpPr/>
          <p:nvPr/>
        </p:nvSpPr>
        <p:spPr>
          <a:xfrm>
            <a:off x="285840" y="500040"/>
            <a:ext cx="81439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rticulators are divided into 2 par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" name="Picture 5" descr="speech-organs"/>
          <p:cNvPicPr/>
          <p:nvPr/>
        </p:nvPicPr>
        <p:blipFill>
          <a:blip r:embed="rId1"/>
          <a:srcRect l="3003" t="2246" r="38619" b="2728"/>
          <a:stretch/>
        </p:blipFill>
        <p:spPr>
          <a:xfrm>
            <a:off x="857160" y="1500120"/>
            <a:ext cx="4179960" cy="4606920"/>
          </a:xfrm>
          <a:prstGeom prst="rect">
            <a:avLst/>
          </a:prstGeom>
          <a:ln w="0">
            <a:noFill/>
          </a:ln>
        </p:spPr>
      </p:pic>
      <p:sp>
        <p:nvSpPr>
          <p:cNvPr id="515" name="Freeform 12"/>
          <p:cNvSpPr/>
          <p:nvPr/>
        </p:nvSpPr>
        <p:spPr>
          <a:xfrm>
            <a:off x="1143000" y="1785960"/>
            <a:ext cx="3825720" cy="1838160"/>
          </a:xfrm>
          <a:custGeom>
            <a:avLst/>
            <a:gdLst>
              <a:gd name="textAreaLeft" fmla="*/ 0 w 3825720"/>
              <a:gd name="textAreaRight" fmla="*/ 3826080 w 3825720"/>
              <a:gd name="textAreaTop" fmla="*/ 0 h 1838160"/>
              <a:gd name="textAreaBottom" fmla="*/ 1838520 h 1838160"/>
            </a:gdLst>
            <a:ahLst/>
            <a:rect l="textAreaLeft" t="textAreaTop" r="textAreaRight" b="textAreaBottom"/>
            <a:pathLst>
              <a:path w="2410" h="1158">
                <a:moveTo>
                  <a:pt x="27" y="783"/>
                </a:moveTo>
                <a:cubicBezTo>
                  <a:pt x="176" y="768"/>
                  <a:pt x="327" y="741"/>
                  <a:pt x="470" y="695"/>
                </a:cubicBezTo>
                <a:cubicBezTo>
                  <a:pt x="538" y="650"/>
                  <a:pt x="615" y="632"/>
                  <a:pt x="692" y="606"/>
                </a:cubicBezTo>
                <a:cubicBezTo>
                  <a:pt x="709" y="600"/>
                  <a:pt x="720" y="584"/>
                  <a:pt x="736" y="576"/>
                </a:cubicBezTo>
                <a:cubicBezTo>
                  <a:pt x="750" y="569"/>
                  <a:pt x="766" y="566"/>
                  <a:pt x="781" y="562"/>
                </a:cubicBezTo>
                <a:cubicBezTo>
                  <a:pt x="936" y="519"/>
                  <a:pt x="1095" y="505"/>
                  <a:pt x="1253" y="473"/>
                </a:cubicBezTo>
                <a:cubicBezTo>
                  <a:pt x="1366" y="492"/>
                  <a:pt x="1480" y="496"/>
                  <a:pt x="1593" y="517"/>
                </a:cubicBezTo>
                <a:cubicBezTo>
                  <a:pt x="1608" y="527"/>
                  <a:pt x="1621" y="540"/>
                  <a:pt x="1637" y="547"/>
                </a:cubicBezTo>
                <a:cubicBezTo>
                  <a:pt x="1666" y="560"/>
                  <a:pt x="1726" y="576"/>
                  <a:pt x="1726" y="576"/>
                </a:cubicBezTo>
                <a:cubicBezTo>
                  <a:pt x="1809" y="705"/>
                  <a:pt x="1698" y="554"/>
                  <a:pt x="1800" y="635"/>
                </a:cubicBezTo>
                <a:cubicBezTo>
                  <a:pt x="1814" y="646"/>
                  <a:pt x="1816" y="667"/>
                  <a:pt x="1829" y="680"/>
                </a:cubicBezTo>
                <a:cubicBezTo>
                  <a:pt x="1841" y="693"/>
                  <a:pt x="1858" y="699"/>
                  <a:pt x="1873" y="709"/>
                </a:cubicBezTo>
                <a:cubicBezTo>
                  <a:pt x="1943" y="813"/>
                  <a:pt x="1903" y="778"/>
                  <a:pt x="1977" y="827"/>
                </a:cubicBezTo>
                <a:cubicBezTo>
                  <a:pt x="2046" y="931"/>
                  <a:pt x="2007" y="896"/>
                  <a:pt x="2080" y="946"/>
                </a:cubicBezTo>
                <a:cubicBezTo>
                  <a:pt x="2100" y="1006"/>
                  <a:pt x="2124" y="1029"/>
                  <a:pt x="2184" y="1049"/>
                </a:cubicBezTo>
                <a:cubicBezTo>
                  <a:pt x="2202" y="1107"/>
                  <a:pt x="2203" y="1158"/>
                  <a:pt x="2317" y="1079"/>
                </a:cubicBezTo>
                <a:cubicBezTo>
                  <a:pt x="2343" y="1061"/>
                  <a:pt x="2336" y="1020"/>
                  <a:pt x="2346" y="990"/>
                </a:cubicBezTo>
                <a:cubicBezTo>
                  <a:pt x="2351" y="973"/>
                  <a:pt x="2366" y="961"/>
                  <a:pt x="2376" y="946"/>
                </a:cubicBezTo>
                <a:cubicBezTo>
                  <a:pt x="2410" y="836"/>
                  <a:pt x="2410" y="734"/>
                  <a:pt x="2376" y="621"/>
                </a:cubicBezTo>
                <a:cubicBezTo>
                  <a:pt x="2367" y="592"/>
                  <a:pt x="2348" y="515"/>
                  <a:pt x="2317" y="488"/>
                </a:cubicBezTo>
                <a:cubicBezTo>
                  <a:pt x="2277" y="453"/>
                  <a:pt x="2228" y="429"/>
                  <a:pt x="2184" y="399"/>
                </a:cubicBezTo>
                <a:cubicBezTo>
                  <a:pt x="2158" y="381"/>
                  <a:pt x="2095" y="370"/>
                  <a:pt x="2095" y="370"/>
                </a:cubicBezTo>
                <a:cubicBezTo>
                  <a:pt x="2080" y="360"/>
                  <a:pt x="2067" y="347"/>
                  <a:pt x="2051" y="340"/>
                </a:cubicBezTo>
                <a:cubicBezTo>
                  <a:pt x="2022" y="327"/>
                  <a:pt x="1962" y="311"/>
                  <a:pt x="1962" y="311"/>
                </a:cubicBezTo>
                <a:cubicBezTo>
                  <a:pt x="1857" y="239"/>
                  <a:pt x="1715" y="214"/>
                  <a:pt x="1593" y="178"/>
                </a:cubicBezTo>
                <a:cubicBezTo>
                  <a:pt x="1501" y="151"/>
                  <a:pt x="1408" y="103"/>
                  <a:pt x="1312" y="89"/>
                </a:cubicBezTo>
                <a:cubicBezTo>
                  <a:pt x="1263" y="82"/>
                  <a:pt x="1214" y="80"/>
                  <a:pt x="1165" y="74"/>
                </a:cubicBezTo>
                <a:cubicBezTo>
                  <a:pt x="1093" y="65"/>
                  <a:pt x="1029" y="43"/>
                  <a:pt x="958" y="30"/>
                </a:cubicBezTo>
                <a:cubicBezTo>
                  <a:pt x="840" y="8"/>
                  <a:pt x="855" y="14"/>
                  <a:pt x="707" y="0"/>
                </a:cubicBezTo>
                <a:cubicBezTo>
                  <a:pt x="572" y="19"/>
                  <a:pt x="534" y="32"/>
                  <a:pt x="426" y="104"/>
                </a:cubicBezTo>
                <a:cubicBezTo>
                  <a:pt x="411" y="114"/>
                  <a:pt x="397" y="123"/>
                  <a:pt x="382" y="133"/>
                </a:cubicBezTo>
                <a:cubicBezTo>
                  <a:pt x="367" y="143"/>
                  <a:pt x="337" y="163"/>
                  <a:pt x="337" y="163"/>
                </a:cubicBezTo>
                <a:cubicBezTo>
                  <a:pt x="295" y="227"/>
                  <a:pt x="282" y="211"/>
                  <a:pt x="219" y="251"/>
                </a:cubicBezTo>
                <a:cubicBezTo>
                  <a:pt x="209" y="266"/>
                  <a:pt x="203" y="283"/>
                  <a:pt x="190" y="296"/>
                </a:cubicBezTo>
                <a:cubicBezTo>
                  <a:pt x="177" y="309"/>
                  <a:pt x="156" y="311"/>
                  <a:pt x="145" y="325"/>
                </a:cubicBezTo>
                <a:cubicBezTo>
                  <a:pt x="135" y="337"/>
                  <a:pt x="138" y="356"/>
                  <a:pt x="131" y="370"/>
                </a:cubicBezTo>
                <a:cubicBezTo>
                  <a:pt x="123" y="386"/>
                  <a:pt x="108" y="398"/>
                  <a:pt x="101" y="414"/>
                </a:cubicBezTo>
                <a:cubicBezTo>
                  <a:pt x="49" y="531"/>
                  <a:pt x="108" y="480"/>
                  <a:pt x="27" y="532"/>
                </a:cubicBezTo>
                <a:cubicBezTo>
                  <a:pt x="0" y="617"/>
                  <a:pt x="5" y="580"/>
                  <a:pt x="27" y="724"/>
                </a:cubicBezTo>
                <a:cubicBezTo>
                  <a:pt x="36" y="783"/>
                  <a:pt x="57" y="753"/>
                  <a:pt x="27" y="783"/>
                </a:cubicBezTo>
                <a:close/>
              </a:path>
            </a:pathLst>
          </a:custGeom>
          <a:noFill/>
          <a:ln w="73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AutoShape 16"/>
          <p:cNvSpPr/>
          <p:nvPr/>
        </p:nvSpPr>
        <p:spPr>
          <a:xfrm>
            <a:off x="5292720" y="1700280"/>
            <a:ext cx="3525840" cy="1081080"/>
          </a:xfrm>
          <a:prstGeom prst="wedgeEllipseCallout">
            <a:avLst>
              <a:gd name="adj1" fmla="val -59680"/>
              <a:gd name="adj2" fmla="val 70115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0059"/>
                </a:solidFill>
                <a:latin typeface="Verdana"/>
              </a:rPr>
              <a:t>Upper articul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AutoShape 19"/>
          <p:cNvSpPr/>
          <p:nvPr/>
        </p:nvSpPr>
        <p:spPr>
          <a:xfrm>
            <a:off x="5292720" y="3500280"/>
            <a:ext cx="3600360" cy="1368720"/>
          </a:xfrm>
          <a:prstGeom prst="wedgeEllipseCallout">
            <a:avLst>
              <a:gd name="adj1" fmla="val -75000"/>
              <a:gd name="adj2" fmla="val -50000"/>
            </a:avLst>
          </a:prstGeom>
          <a:solidFill>
            <a:srgbClr val="ccff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Lower articul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Freeform 18"/>
          <p:cNvSpPr/>
          <p:nvPr/>
        </p:nvSpPr>
        <p:spPr>
          <a:xfrm>
            <a:off x="1500120" y="2786040"/>
            <a:ext cx="2943360" cy="961920"/>
          </a:xfrm>
          <a:custGeom>
            <a:avLst/>
            <a:gdLst>
              <a:gd name="textAreaLeft" fmla="*/ 0 w 2943360"/>
              <a:gd name="textAreaRight" fmla="*/ 2943720 w 2943360"/>
              <a:gd name="textAreaTop" fmla="*/ 0 h 961920"/>
              <a:gd name="textAreaBottom" fmla="*/ 962280 h 961920"/>
            </a:gdLst>
            <a:ahLst/>
            <a:rect l="textAreaLeft" t="textAreaTop" r="textAreaRight" b="textAreaBottom"/>
            <a:pathLst>
              <a:path w="1854" h="606">
                <a:moveTo>
                  <a:pt x="12" y="310"/>
                </a:moveTo>
                <a:cubicBezTo>
                  <a:pt x="45" y="215"/>
                  <a:pt x="0" y="308"/>
                  <a:pt x="71" y="251"/>
                </a:cubicBezTo>
                <a:cubicBezTo>
                  <a:pt x="85" y="240"/>
                  <a:pt x="86" y="216"/>
                  <a:pt x="101" y="207"/>
                </a:cubicBezTo>
                <a:cubicBezTo>
                  <a:pt x="113" y="199"/>
                  <a:pt x="205" y="172"/>
                  <a:pt x="234" y="163"/>
                </a:cubicBezTo>
                <a:cubicBezTo>
                  <a:pt x="414" y="104"/>
                  <a:pt x="594" y="38"/>
                  <a:pt x="780" y="0"/>
                </a:cubicBezTo>
                <a:cubicBezTo>
                  <a:pt x="854" y="5"/>
                  <a:pt x="928" y="8"/>
                  <a:pt x="1002" y="15"/>
                </a:cubicBezTo>
                <a:cubicBezTo>
                  <a:pt x="1081" y="23"/>
                  <a:pt x="1238" y="44"/>
                  <a:pt x="1238" y="44"/>
                </a:cubicBezTo>
                <a:cubicBezTo>
                  <a:pt x="1302" y="66"/>
                  <a:pt x="1366" y="83"/>
                  <a:pt x="1430" y="104"/>
                </a:cubicBezTo>
                <a:cubicBezTo>
                  <a:pt x="1445" y="109"/>
                  <a:pt x="1459" y="113"/>
                  <a:pt x="1474" y="118"/>
                </a:cubicBezTo>
                <a:cubicBezTo>
                  <a:pt x="1489" y="123"/>
                  <a:pt x="1518" y="133"/>
                  <a:pt x="1518" y="133"/>
                </a:cubicBezTo>
                <a:cubicBezTo>
                  <a:pt x="1533" y="148"/>
                  <a:pt x="1546" y="165"/>
                  <a:pt x="1563" y="177"/>
                </a:cubicBezTo>
                <a:cubicBezTo>
                  <a:pt x="1576" y="186"/>
                  <a:pt x="1595" y="182"/>
                  <a:pt x="1607" y="192"/>
                </a:cubicBezTo>
                <a:cubicBezTo>
                  <a:pt x="1703" y="268"/>
                  <a:pt x="1571" y="213"/>
                  <a:pt x="1681" y="251"/>
                </a:cubicBezTo>
                <a:cubicBezTo>
                  <a:pt x="1756" y="367"/>
                  <a:pt x="1659" y="230"/>
                  <a:pt x="1755" y="325"/>
                </a:cubicBezTo>
                <a:cubicBezTo>
                  <a:pt x="1790" y="360"/>
                  <a:pt x="1801" y="417"/>
                  <a:pt x="1829" y="458"/>
                </a:cubicBezTo>
                <a:cubicBezTo>
                  <a:pt x="1854" y="536"/>
                  <a:pt x="1853" y="560"/>
                  <a:pt x="1784" y="606"/>
                </a:cubicBezTo>
                <a:cubicBezTo>
                  <a:pt x="1522" y="582"/>
                  <a:pt x="1264" y="519"/>
                  <a:pt x="1002" y="488"/>
                </a:cubicBezTo>
                <a:cubicBezTo>
                  <a:pt x="868" y="443"/>
                  <a:pt x="1001" y="483"/>
                  <a:pt x="691" y="458"/>
                </a:cubicBezTo>
                <a:cubicBezTo>
                  <a:pt x="656" y="455"/>
                  <a:pt x="622" y="449"/>
                  <a:pt x="588" y="443"/>
                </a:cubicBezTo>
                <a:cubicBezTo>
                  <a:pt x="568" y="439"/>
                  <a:pt x="549" y="431"/>
                  <a:pt x="529" y="428"/>
                </a:cubicBezTo>
                <a:cubicBezTo>
                  <a:pt x="366" y="407"/>
                  <a:pt x="203" y="393"/>
                  <a:pt x="42" y="355"/>
                </a:cubicBezTo>
                <a:cubicBezTo>
                  <a:pt x="25" y="305"/>
                  <a:pt x="43" y="310"/>
                  <a:pt x="12" y="310"/>
                </a:cubicBezTo>
                <a:close/>
              </a:path>
            </a:pathLst>
          </a:custGeom>
          <a:noFill/>
          <a:ln w="7632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20"/>
          <p:cNvSpPr/>
          <p:nvPr/>
        </p:nvSpPr>
        <p:spPr>
          <a:xfrm>
            <a:off x="5364000" y="1125360"/>
            <a:ext cx="338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40059"/>
                </a:solidFill>
                <a:latin typeface="Constantia"/>
              </a:rPr>
              <a:t>Passive articul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21"/>
          <p:cNvSpPr/>
          <p:nvPr/>
        </p:nvSpPr>
        <p:spPr>
          <a:xfrm>
            <a:off x="5761080" y="3068640"/>
            <a:ext cx="338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nstantia"/>
              </a:rPr>
              <a:t>active articul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2"/>
          <p:cNvSpPr/>
          <p:nvPr/>
        </p:nvSpPr>
        <p:spPr>
          <a:xfrm>
            <a:off x="428760" y="428760"/>
            <a:ext cx="8001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99"/>
                </a:solidFill>
                <a:latin typeface="Arial"/>
                <a:ea typeface="Arial"/>
              </a:rPr>
              <a:t>1. Pharynx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Picture 19" descr="uchr_01_img0033"/>
          <p:cNvPicPr/>
          <p:nvPr/>
        </p:nvPicPr>
        <p:blipFill>
          <a:blip r:embed="rId1"/>
          <a:stretch/>
        </p:blipFill>
        <p:spPr>
          <a:xfrm>
            <a:off x="571680" y="1357200"/>
            <a:ext cx="4751280" cy="5227920"/>
          </a:xfrm>
          <a:prstGeom prst="rect">
            <a:avLst/>
          </a:prstGeom>
          <a:ln w="0">
            <a:noFill/>
          </a:ln>
        </p:spPr>
      </p:pic>
      <p:sp>
        <p:nvSpPr>
          <p:cNvPr id="523" name="Rectangle 24"/>
          <p:cNvSpPr/>
          <p:nvPr/>
        </p:nvSpPr>
        <p:spPr>
          <a:xfrm>
            <a:off x="3857760" y="3286080"/>
            <a:ext cx="576000" cy="2303640"/>
          </a:xfrm>
          <a:prstGeom prst="rect">
            <a:avLst/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5357880" y="1785960"/>
            <a:ext cx="3357360" cy="40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0059"/>
                </a:solidFill>
                <a:latin typeface="Constantia"/>
              </a:rPr>
              <a:t>It ser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0059"/>
                </a:solidFill>
                <a:latin typeface="Constantia"/>
              </a:rPr>
              <a:t>primarily as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0059"/>
                </a:solidFill>
                <a:latin typeface="Constantia"/>
              </a:rPr>
              <a:t>tube connec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0059"/>
                </a:solidFill>
                <a:latin typeface="Constantia"/>
              </a:rPr>
              <a:t>the larynx w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0059"/>
                </a:solidFill>
                <a:latin typeface="Constantia"/>
              </a:rPr>
              <a:t>the oral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0059"/>
                </a:solidFill>
                <a:latin typeface="Constantia"/>
              </a:rPr>
              <a:t>nasal ca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9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0" dur="250" autoRev="1" fill="hold"/>
                                        <p:tgtEl>
                                          <p:spTgt spid="52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5"/>
          <p:cNvSpPr/>
          <p:nvPr/>
        </p:nvSpPr>
        <p:spPr>
          <a:xfrm>
            <a:off x="785880" y="428760"/>
            <a:ext cx="8001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99"/>
                </a:solidFill>
                <a:latin typeface="Arial"/>
                <a:ea typeface="Arial"/>
              </a:rPr>
              <a:t> </a:t>
            </a:r>
            <a:r>
              <a:rPr b="1" lang="en-US" sz="4800" spc="-1" strike="noStrike">
                <a:solidFill>
                  <a:srgbClr val="990099"/>
                </a:solidFill>
                <a:latin typeface="Arial"/>
                <a:ea typeface="Arial"/>
              </a:rPr>
              <a:t>(Hard ) Palat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Picture 4" descr="Palatal articulation"/>
          <p:cNvPicPr/>
          <p:nvPr/>
        </p:nvPicPr>
        <p:blipFill>
          <a:blip r:embed="rId1"/>
          <a:stretch/>
        </p:blipFill>
        <p:spPr>
          <a:xfrm>
            <a:off x="1143000" y="1714680"/>
            <a:ext cx="4071960" cy="3929040"/>
          </a:xfrm>
          <a:prstGeom prst="rect">
            <a:avLst/>
          </a:prstGeom>
          <a:ln w="0">
            <a:noFill/>
          </a:ln>
        </p:spPr>
      </p:pic>
      <p:sp>
        <p:nvSpPr>
          <p:cNvPr id="527" name="Oval 10"/>
          <p:cNvSpPr/>
          <p:nvPr/>
        </p:nvSpPr>
        <p:spPr>
          <a:xfrm rot="3173400">
            <a:off x="2859840" y="2343960"/>
            <a:ext cx="792000" cy="936720"/>
          </a:xfrm>
          <a:prstGeom prst="ellipse">
            <a:avLst/>
          </a:prstGeom>
          <a:noFill/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4 CuadroTexto"/>
          <p:cNvSpPr/>
          <p:nvPr/>
        </p:nvSpPr>
        <p:spPr>
          <a:xfrm>
            <a:off x="5715000" y="2286000"/>
            <a:ext cx="32148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nstantia"/>
              </a:rPr>
              <a:t>Also called  the “roof of the mouth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5 Rectángulo"/>
          <p:cNvSpPr/>
          <p:nvPr/>
        </p:nvSpPr>
        <p:spPr>
          <a:xfrm>
            <a:off x="5786280" y="3714840"/>
            <a:ext cx="29289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nstantia"/>
              </a:rPr>
              <a:t>It is a curved surfaced .</a:t>
            </a: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1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2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2"/>
          <p:cNvSpPr/>
          <p:nvPr/>
        </p:nvSpPr>
        <p:spPr>
          <a:xfrm>
            <a:off x="785880" y="285840"/>
            <a:ext cx="8001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66cc"/>
                </a:solidFill>
                <a:latin typeface="Arial"/>
                <a:ea typeface="Arial"/>
              </a:rPr>
              <a:t>Velum/ Soft Palate</a:t>
            </a:r>
            <a:r>
              <a:rPr b="1" lang="en-US" sz="5000" spc="-1" strike="noStrike">
                <a:solidFill>
                  <a:srgbClr val="666666"/>
                </a:solidFill>
                <a:latin typeface="Arial"/>
                <a:ea typeface="Arial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5"/>
          <p:cNvSpPr/>
          <p:nvPr/>
        </p:nvSpPr>
        <p:spPr>
          <a:xfrm>
            <a:off x="1295280" y="500076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Constantia"/>
              </a:rPr>
              <a:t>It is located between the pharynx and the hard palate.  It controls the airflow into the nasal cavity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2" name="Picture 8" descr="Velar"/>
          <p:cNvPicPr/>
          <p:nvPr/>
        </p:nvPicPr>
        <p:blipFill>
          <a:blip r:embed="rId1"/>
          <a:stretch/>
        </p:blipFill>
        <p:spPr>
          <a:xfrm>
            <a:off x="1357200" y="1428840"/>
            <a:ext cx="4464000" cy="3512880"/>
          </a:xfrm>
          <a:prstGeom prst="rect">
            <a:avLst/>
          </a:prstGeom>
          <a:ln w="0">
            <a:noFill/>
          </a:ln>
        </p:spPr>
      </p:pic>
      <p:sp>
        <p:nvSpPr>
          <p:cNvPr id="533" name="Oval 10"/>
          <p:cNvSpPr/>
          <p:nvPr/>
        </p:nvSpPr>
        <p:spPr>
          <a:xfrm rot="3173400">
            <a:off x="4002840" y="2058120"/>
            <a:ext cx="792000" cy="936720"/>
          </a:xfrm>
          <a:prstGeom prst="ellipse">
            <a:avLst/>
          </a:prstGeom>
          <a:noFill/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7"/>
          <p:cNvSpPr/>
          <p:nvPr/>
        </p:nvSpPr>
        <p:spPr>
          <a:xfrm>
            <a:off x="6215040" y="2214720"/>
            <a:ext cx="2527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/g/</a:t>
            </a:r>
            <a:r>
              <a:rPr b="0" lang="en-US" sz="5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, </a:t>
            </a:r>
            <a:r>
              <a:rPr b="1" lang="en-US" sz="5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/k/</a:t>
            </a:r>
            <a:r>
              <a:rPr b="0" lang="en-US" sz="5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, </a:t>
            </a:r>
            <a:r>
              <a:rPr b="1" lang="en-US" sz="5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/ ŋ/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8" dur="2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7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3"/>
          <p:cNvSpPr/>
          <p:nvPr/>
        </p:nvSpPr>
        <p:spPr>
          <a:xfrm>
            <a:off x="785880" y="642960"/>
            <a:ext cx="8001000" cy="48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onstantia"/>
              </a:rPr>
              <a:t>Unlike he hard palate, which is made of bone, the soft palate is made of muscle and soft tissue.</a:t>
            </a:r>
            <a:r>
              <a:rPr b="1" lang="en-US" sz="3200" spc="-1" strike="noStrike">
                <a:solidFill>
                  <a:srgbClr val="660066"/>
                </a:solidFill>
                <a:latin typeface="Constanti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nstantia"/>
              </a:rPr>
              <a:t>When it is lowered it allows air to flow into the nasal cavity and exit through the nose.  When it is raised the air can enter the oral cavity on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0" dur="1000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5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5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2"/>
          <p:cNvSpPr/>
          <p:nvPr/>
        </p:nvSpPr>
        <p:spPr>
          <a:xfrm>
            <a:off x="785880" y="500040"/>
            <a:ext cx="8001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40059"/>
                </a:solidFill>
                <a:latin typeface="Arial"/>
                <a:ea typeface="Arial"/>
              </a:rPr>
              <a:t> </a:t>
            </a:r>
            <a:r>
              <a:rPr b="1" lang="en-US" sz="4800" spc="-1" strike="noStrike">
                <a:solidFill>
                  <a:srgbClr val="e40059"/>
                </a:solidFill>
                <a:latin typeface="Arial"/>
                <a:ea typeface="Arial"/>
              </a:rPr>
              <a:t>Alveolar ridg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Picture 4" descr="Alveolar articulation"/>
          <p:cNvPicPr/>
          <p:nvPr/>
        </p:nvPicPr>
        <p:blipFill>
          <a:blip r:embed="rId1"/>
          <a:stretch/>
        </p:blipFill>
        <p:spPr>
          <a:xfrm>
            <a:off x="1143000" y="1500120"/>
            <a:ext cx="4429080" cy="4286160"/>
          </a:xfrm>
          <a:prstGeom prst="rect">
            <a:avLst/>
          </a:prstGeom>
          <a:ln w="0">
            <a:noFill/>
          </a:ln>
        </p:spPr>
      </p:pic>
      <p:sp>
        <p:nvSpPr>
          <p:cNvPr id="538" name="Oval 10"/>
          <p:cNvSpPr/>
          <p:nvPr/>
        </p:nvSpPr>
        <p:spPr>
          <a:xfrm rot="3173400">
            <a:off x="2539440" y="2675160"/>
            <a:ext cx="644400" cy="777960"/>
          </a:xfrm>
          <a:prstGeom prst="ellipse">
            <a:avLst/>
          </a:prstGeom>
          <a:noFill/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5 CuadroTexto"/>
          <p:cNvSpPr/>
          <p:nvPr/>
        </p:nvSpPr>
        <p:spPr>
          <a:xfrm>
            <a:off x="5857920" y="1785960"/>
            <a:ext cx="292896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nstantia"/>
              </a:rPr>
              <a:t>It is situated between the teeth and the hard palate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6 CuadroTexto"/>
          <p:cNvSpPr/>
          <p:nvPr/>
        </p:nvSpPr>
        <p:spPr>
          <a:xfrm>
            <a:off x="5857920" y="3571920"/>
            <a:ext cx="26431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nstantia"/>
              </a:rPr>
              <a:t>It is covered with little ridg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5"/>
          <p:cNvSpPr/>
          <p:nvPr/>
        </p:nvSpPr>
        <p:spPr>
          <a:xfrm>
            <a:off x="5786280" y="5357880"/>
            <a:ext cx="2808360" cy="46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/d/, /t/,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/n/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8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2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20:48:34Z</dcterms:created>
  <dc:creator>Administrador</dc:creator>
  <dc:description/>
  <dc:language>en-US</dc:language>
  <cp:lastModifiedBy>Carina</cp:lastModifiedBy>
  <dcterms:modified xsi:type="dcterms:W3CDTF">2013-05-02T20:24:09Z</dcterms:modified>
  <cp:revision>15</cp:revision>
  <dc:subject/>
  <dc:title>Diapositiva 1</dc:title>
</cp:coreProperties>
</file>