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824-47D4-49D0-844A-5158AFE1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AE0-4C1A-4B92-9533-C668D6B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FA5B7-8C06-437A-A657-FED638F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E07BB-A038-4E9D-93F2-5D2A1F6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6B41D-D42B-4C1F-B4B9-133038FA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9A0E1-CD10-4BEE-9E64-9BD95DBB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0A4B3-CC6A-4717-ABD4-1EF84C6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DA2B-38D1-433F-9EDF-1DC394B9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CF2F6-DB16-4B3B-A227-34619936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26122-5FC3-4C60-9044-51933969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70E0-0908-4637-B276-954BC3C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1DFFF-C006-485E-8862-2CD031E4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564-1185-48AD-83A0-679414C5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78BD0-1031-4F9C-B21D-A4CB95B0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33636-7186-44EF-89DA-4038D0F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9B269-01DF-4889-8563-3A744BEC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F1470-3F46-4063-8F65-ECDCE7A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A97BE-DBD4-4371-80AD-212BA97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54CB8-7125-4751-BFE9-78E402E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BB13B-FD99-44D0-A725-E8EC622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8D339-99B4-479A-ACB7-A522028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C9030-6DFE-4AFB-A820-C9610EB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A79E2-1BD1-4840-AA40-67CE5525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8E3-5590-4B8A-9F5B-A2F8C9AA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F5F45-35FC-4E4B-A53E-0DD6E79B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38F6D-09AE-4DE3-895B-2D5091F5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77E2A-8F67-4F8C-A333-99F481F1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F730C-25CE-4FE8-BA29-AED0C75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F1C90-B4BF-4BA4-B556-B21106EB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A8035-9BE8-4FE3-9C8F-9F8F018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2E27-D0AF-48FB-881D-91D183C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F776-8BC6-490B-B0FC-21288376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D26DD-E371-414E-BBED-3B53CFB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5C0EC-025C-4B9E-A71D-05B2F7F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48AF-1F32-4D19-9D30-BCC061DD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EB2A4-F0FB-462C-82C6-483C2A2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4C535-3AE1-4C03-883F-6212C9FB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F4306-3421-4631-91CC-02AAA48E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296C0-0167-4B8B-89E8-219BA815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0F821-F0D0-4F97-9DD1-55C8728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7D159-7377-440B-9CC1-D027597B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FE5F1-874E-4E10-9D1E-0EF42586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81E75-FEF5-45AF-8518-B8ADD023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8F52D-17C9-4DB0-8924-BAB087D3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70F92-4FC0-48DD-B096-5BAB65C5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63A5-457F-4416-BB7A-BC1AD5F5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DA1EC-940F-458B-A9A6-08838DC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37186-45DE-4421-9FC3-64A2B8B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42A85-CE64-46BD-8964-FE1DCA33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B1F1-79B2-4E24-A80D-61BC781D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ED8C8-DBFB-487F-8982-500C286C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E41D-924C-44E5-AC48-BA4CBBBE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D64-9919-40B6-B237-E5D67B3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F6CA-F0BA-4C38-AC1D-9D47E16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569C-2554-4358-ABD3-E9B69DE1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A865-4015-4575-9F31-EB8F6C51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923-838A-4832-8DD5-9FBEA52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A4B-E740-41A7-844A-0F6BE9D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9A64-B6E7-44AA-B31B-81D4C0C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1A74-0F28-4A17-A4A6-9914238F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CC8-BD2A-405F-BB2A-21B71AF6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212A-8AA6-440D-BA7B-FE706F2B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BD8E-AEF3-4241-9DB8-6163293E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82AC-B7DA-4ECA-9905-A81C54B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0DD9-7617-4779-820D-D99694F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CD2A-3D56-43A1-9CE9-9792F20C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E729-5351-4B22-AF2E-92DE30BA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3E4-3198-4760-A89A-3233561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1F91-07D1-4F17-A25F-52E63D09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56B3-2EF1-4BC4-98B7-91A9460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ECCF-89D9-43D5-A5D0-897DCBA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19B5-0444-4BE9-AB8B-033A757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274F-C4FD-464C-A2AA-11FE7141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D595-EABB-48EC-BEEA-1BF8C23F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78CA-5E9F-42A8-94EF-81C71694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80C6-2497-427F-86D2-69DEB6C3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0B7F-5D15-47A3-9103-CE239E7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C1BA-D11D-4A2F-A32C-B11D559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84C-57F8-4CB7-A9C6-D1F9A33F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E82A-5D2B-4AD5-9B36-A4B050F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84BB-762F-49E0-8B60-450BA38F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AB02C-2A48-4792-B336-F35D173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1968-B3BD-4EA6-855D-7CE87FB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4746-C68E-483C-B262-5F3C801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49BA-4A89-453E-A3E6-EB652DA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B103-B6F4-4A8A-9801-F169465D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1C969-F4EC-4F36-96D0-071BEF7F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51CF-7002-4E29-AB80-4FFF8D42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FC32C-2888-4976-8A08-7F0064F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E7D-65A1-4BFF-BBEA-8B51F168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388D-461E-4550-B16A-85EE6D03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3365-6007-45DE-A0B4-B124DD5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A9659-9B53-45F3-BC2D-4834D20A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7BCA-5789-4BB2-B9E7-0D8FDB71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9BA66-EB78-45B4-832E-CFAB2868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B66F-932F-4E7D-BAA3-4E9C0020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36C3-84E3-407A-818B-011FD45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6626-DE01-4299-B78D-972D15B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EC414-2A6D-4818-B4A5-584D9146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B0CC-F6DE-42C2-820F-2A3FF035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8FC-3319-43C7-992C-753139C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8B6D7-281D-458D-8F63-3B6BEAAF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3973-AC2A-4D8B-9184-89F14C7C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B3A43-6F46-422C-A546-CDFF5BC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B3B3-618B-42DC-8037-EC2EC86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51DE-C520-44A6-9B07-889CBDB5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A9C4-5C9E-40CE-8DD7-4D485A54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6A9C-A3FD-4AF8-A286-27FD4F0D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5CCA-59EC-4D3E-8A31-DC5C7CA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069EA-4254-481A-8F5A-A7C8D1B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D366-1CE0-447A-834E-1D98008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EC0-1CB2-45CA-8A49-C51BD23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810F-99EA-498D-894C-A1325B51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A40A-6A9A-4E44-87A1-346B4DFC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FB6A5-31D7-4183-B946-69666665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B98F3-DC6F-4CA5-A4F5-F8920F75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7B3B7-E6E2-4738-AD6B-9AB0C1A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F07C-366A-4CB5-AEF6-EF9577B0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2A24-C454-42D2-9627-35123DCA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0126-C423-42CB-A69D-C5F7742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97DF-AD7C-4E41-89B1-A86C6D9B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61E38-2BD0-404D-B8FB-F90FCB5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704-CCE1-4BD2-AAB9-0A0A8C6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3486-5403-47F0-AC13-D38C4C5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92BF3-DFB0-4766-968D-A3F8681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87585-78BB-46FE-B026-4FEB3AB0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B8E7-446B-4CD6-8C39-282DE5F2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040F5-1142-4AF0-BFE5-F4215673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DDB71-13E5-4794-ADC7-947E12B4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D3BFB-7F7E-471F-A296-0B7C901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2BFFB-E779-414B-AB65-8AD34CD2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38B7-0AAA-4AEA-A76D-29F7467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A5991-8F34-45A8-9293-73B62FC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D6B-3675-4F76-A490-84F0837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84C20-B5DD-4F42-914C-6E2D9130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9278-BCF5-41AB-AB88-8D8ECDF1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5528-AF04-4B69-9C8D-B3772A3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1CC3D-A685-40E8-9B89-97B71DD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80F9-B730-41F4-8009-8D31EB44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70304-BADE-4BF1-A7CF-D644CAFB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753AC-1679-4BDE-A642-B43CA416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A6080-193F-4BA1-997F-399C3EEC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BF0D-0491-45CB-986B-3C30A51B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848FF-6D31-4FAD-88C1-B46587F6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7B05-A75E-463A-B333-6689C3E230F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77B9-0010-4C91-9A51-F9B6C0CE3183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F5BB-753C-4E10-9081-559D376D21B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526-F8C6-4180-A98F-6F9E10D9550B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3E3B-16CC-499F-98E3-B835AD71C986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17EE-21A5-4652-B334-8EFCECD302D1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827-541F-49A2-989C-12C65D27D3C1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588-D27C-4A1E-9BAE-D1297F9EFCEE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6B0-D4AC-45EB-B3D7-974439215B5A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13F5-F915-495A-955B-08F66D59E8F6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C47-7DEE-470A-BE1B-FDE1FCAE0A12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6337-13E8-4E25-8B13-9C8068AB8AC5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43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1 Imagen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635120" y="2639880"/>
            <a:ext cx="2778120" cy="1095480"/>
          </a:xfrm>
          <a:custGeom>
            <a:avLst/>
            <a:gdLst>
              <a:gd name="textAreaLeft" fmla="*/ 0 w 2778120"/>
              <a:gd name="textAreaRight" fmla="*/ 2778480 w 27781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4322880" y="184464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4413240" y="389556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692360" y="3263760"/>
            <a:ext cx="2233440" cy="83340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148360" y="13255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148360" y="3421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vocal tract (lower)"/>
          <p:cNvPicPr/>
          <p:nvPr/>
        </p:nvPicPr>
        <p:blipFill>
          <a:blip r:embed="rId1"/>
          <a:stretch/>
        </p:blipFill>
        <p:spPr>
          <a:xfrm>
            <a:off x="928800" y="1643040"/>
            <a:ext cx="457200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32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6-01T02:37:45Z</dcterms:modified>
  <cp:revision>19</cp:revision>
  <dc:subject/>
  <dc:title>Diapositiva 1</dc:title>
</cp:coreProperties>
</file>