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png" ContentType="image/png"/>
  <Override PartName="/ppt/media/image7.jpeg" ContentType="image/jpe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BE4D-0F59-48A9-8F7F-E5867D81F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977E-E32D-421A-B851-D2F486BB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6C8917-A52B-417C-A0F5-C35C145C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EF68F-37E1-4AD1-A816-493B26E7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E070DE-EE2C-4311-8EAD-AC5AE245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15F1F6-69AA-41FC-A525-A5353074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BC0EF-AB71-4279-B040-0FCFA564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64EB61-C088-442F-92B0-69C92844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9CB8D2-857D-4346-802D-D0754376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7263AE-4565-42FC-85AC-4C7E8629D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7E65CA-B6D3-42DE-A60E-0F789B708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F2E776-E519-4C99-9DF5-6AF69DA6B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4231-930F-45AD-BB7A-FC773C870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EFCA94-CC83-4A44-9A6F-B9318E9A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0223A6-1B9F-43B3-9957-A2ED4BCE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17F1D7-4D37-442A-A1C4-4EEFE322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9F9A6A-C4A9-4A68-AD5F-F85BB72A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CC8C64-0B8C-4B5B-BFDB-F811DC40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99255A-0CF2-452A-BE3D-D1B91222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50A604-0336-4567-A048-2EDA447D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0794AF-5B86-4F6E-A64D-89D4AEC8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6DFB7E-1F02-4FA7-9265-B718CD3E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3D54A9-427B-491B-A3F2-D1AADC583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1362-4949-4AB8-A802-7A89697E8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EE8BE2-58D2-472E-A778-A8C892E71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61909-0B03-4CAA-B94A-BF4744179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3DD93B-82F8-4122-A737-4142BE35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215EF-997A-4CA9-984B-EC5066A2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96D159-A1E0-4112-9DE9-9FD361E00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6A68F9-A344-4AB1-B294-9FA97A14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533661-2527-43B6-ACD2-4362F6DE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AF685-48FD-44F4-9C90-81D10AB3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1CC405-4588-47DF-9DB1-9C8303D4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70E95E-9883-4C69-BDF4-4A4E041A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1EE3-1F72-460E-BBE4-44A1432BF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F416E-A36E-49D0-8E7E-0853DCB2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BBFF45-066A-4633-8304-A31BE51B7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BC6A5B-2A39-4221-9D10-6BCD0709A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721D53-02EE-437E-8BF7-627BC5ABE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A74350-32AA-427A-8C94-1935EF09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BD41B9-E038-48BD-960D-EB15EAA9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C3E05B-E49E-4BE0-AE86-B60E12BB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7C7F05-9EA2-44C4-9370-6111A453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642AFC-F708-4CC6-873E-B6B2F4F0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B45C21-EFDC-40EE-B0C3-A8C5FCC2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B460-02A9-4868-8506-3035A4F0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AE3F0B-D001-4BF4-A18A-8376B981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34F7DD-B200-4846-BEEB-6F73DB48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64FB4C-BFAD-49C1-8652-4E5A7B68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E09F57-891A-42F4-BF0D-DBF9760F8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95A025-AC8E-4515-B6EA-8A5ECAAB6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DF2D-A9AB-4F1A-9E86-11C44540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58B3-297F-4543-9AA7-57820D12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ED99E-126B-49D9-B944-E5DE12A6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D011-EC80-48A9-886B-9D0472DA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6E70-22D3-4550-8371-9BFC1EFA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88BB-FF5C-43FE-9D89-1DB1AA05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611C-9A12-407B-9E31-CBE7024E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A594-5E07-4FD9-96CB-7A5A8C8B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CE08-5648-4023-9FBD-DEAF2977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9FE79-79C3-4E2D-9977-28919F669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20B7-C9FE-4BE2-9EFB-FA5A49771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97DEB-9E27-4CF8-9B8C-509AFB312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B4175-37F8-45FA-9152-6CA88AC2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77BB6-7D37-4BC5-A055-25D43D0F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F2822-88FD-42E6-85A1-1558947A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BC2F7-1078-4482-A1F9-60C35E7F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FC5A-3530-4DD5-8544-0DD53BD9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48E2A-1DA4-46EA-9055-9B597F9B6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67C73-22B0-4DC4-8B0B-37FA8E4F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BB823-A178-4352-B160-A79C37AD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0F680-8B46-40B9-B109-99BC789E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E5558-A368-412D-9534-7E082C4F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E71EE-B1B3-48FD-8959-FC5E52F4D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9F2D3-AFCC-4F0A-9C97-213304027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2B94D-F204-4A4A-A2FE-3415D966D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9A6F2-97E2-4C57-8538-E4B5BBC2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14FB6-25EF-4D34-A65A-E424B163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92C6-11A2-4746-8C53-EB4F6B7E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05DAC-2093-42D5-9574-75CF8804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C7CA3-604B-449D-B329-1119030C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D42FC-3E89-42E0-965A-E75681FF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789BA-44CF-47F5-8683-26E2B6A8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41602-7756-4800-822E-F88CEE93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82958-84DB-4989-9A8D-78A30F20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4B5EC-9921-47BC-85F4-C01B865A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E8B15-8EC6-424A-8BEA-C0A237DC9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9E8FB-EC6D-4B57-95C6-B90F0355C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E38A8-43EE-4FFE-98BB-9676B33EC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702A-6C17-493E-9FD2-3E97CF21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69486-C5C2-4FBD-BF24-0D844BD3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73DC6-570C-41C0-811D-3F82AA89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2B2EE-CEE5-43B2-89A9-72042EC2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FD033-EA66-4466-8077-ED17F53F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15EAE-9723-4843-B544-31A9E07C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EE743-50FE-4227-8E27-DE5D0DA0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2EC34-F3B2-4A39-BDF1-DC40EA2E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D81DC-EB81-4203-9696-CCAC061E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96E76-57CA-409C-A595-7E961135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9CCD9-FF9E-40E9-BAB6-752E512FC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8CC4-4BE5-47D4-A8C9-FEDBE4BA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87FCD-16D2-4D78-BF58-A142BD3A0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E608D-5130-4D3C-A264-FE865720C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C8D15-3DE1-418F-B50D-CEF1453E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F0F46-834F-4CA6-9155-21B11CFA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FA267-5D3F-4B0A-94B1-468E4EFE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B8F38-1FB6-4337-9855-74F1BAF1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A9CEB-C9A7-4924-860B-962BD17C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0334F-0D0A-4BF1-939D-58A1F9B9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3B1AC-8632-4DA7-827B-97918C11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E9F3B-E183-4C36-AB34-8C8BB66D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7CBA-2DAE-4F09-A43B-2ED19669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CEAE9-7CCC-4434-B43B-C632F51D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3F249-52F1-4032-9FC4-06844E659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DEF1F-F79E-4F86-A6CB-00A5190AA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39B44-C7A6-4D90-B9C8-6709220A7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40C63-1F05-4670-AA33-DFB4F1B8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30B9B-9D93-41FA-97DE-BB4B11A2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F58DB-DCF0-45D8-AE5C-1E9EA8F0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00519-C34D-419B-AA9F-48E57010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38E85-4DBD-46C2-81F3-FEA83E86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9DCBC-1C53-480E-8F7E-DE949966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29F3-EF6E-49CE-A58C-C7C0D2B2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0B4D7-2D26-42B9-9935-F3EB77A2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4B9C2-155F-4E37-93CB-204DF6B2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80D5A-9F13-4A38-ACDF-66B9BCAD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80C77-EA90-4B4B-AA42-255732391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BBFDA-C37C-4FA8-A038-4CF3D2155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62235-CDE3-4B19-BBD4-2E0D1FB59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59901-9BBF-4D47-BA8E-F9F60DB1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76154-0DD3-4C7C-9295-A2065B45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E1041-2E3A-4618-8064-D8B04733E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07BD7-9502-4771-991F-07B7A4C5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892E-A873-4D7A-934E-10A2D3B8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918AB-6DBD-4AB7-8D1A-3BBE2509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F3371-23AB-47CB-9D24-7ABD5E86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28E30-99E9-4A29-B4ED-335E1461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A59AD-3423-454B-8C1B-A926C3A4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FEDD0-F4C2-4D35-9229-FD8E9083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EDA27-EA04-4242-A3A3-81CDD8939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C1F31-76A5-4B3A-8D11-3C11C48BA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1D81C-8DF4-4287-80DD-9A338716A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0FE8C-7235-49E2-806B-1AF06348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C9432D-5578-41C9-A357-B09909BB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FE33-ECC5-472B-B9AF-E51FF4FA1478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6517-0E3A-4C5D-9495-C73E4DCE437D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D303-3E28-4198-8E1C-F3C7D26E1B30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63A5-FF68-43B2-BF0F-45246D332CF3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c8c8c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E674-6D1A-40AC-905F-559FF17CC231}" type="slidenum">
              <a:rPr b="0" lang="es-MX" sz="1200" spc="-1" strike="noStrike">
                <a:solidFill>
                  <a:srgbClr val="c8c8c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09CF-9BAE-4BCF-8F7F-69DE05B091F7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c8c8c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ECD8-02FF-4A80-B50E-F600323076F8}" type="slidenum">
              <a:rPr b="0" lang="es-MX" sz="1200" spc="-1" strike="noStrike">
                <a:solidFill>
                  <a:srgbClr val="c8c8c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D8B4-6F38-40F1-A9A6-11B1A56EFC76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1355-DFF3-41C1-A292-EE3CE67868F2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DE7A-E7CF-4368-A0EA-EDD6EB258A52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4BF7-D28D-4428-98D6-6BFB030BFC73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5D19-11CF-4146-9029-A0026ED52DF9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2 Rectángulo" descr=""/>
          <p:cNvPicPr/>
          <p:nvPr/>
        </p:nvPicPr>
        <p:blipFill>
          <a:blip r:embed="rId1"/>
          <a:stretch/>
        </p:blipFill>
        <p:spPr>
          <a:xfrm>
            <a:off x="1212840" y="1487520"/>
            <a:ext cx="70041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785880" y="50004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40059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e40059"/>
                </a:solidFill>
                <a:latin typeface="Arial"/>
                <a:ea typeface="Arial"/>
              </a:rPr>
              <a:t>Alveolar rid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Alveolar articulation"/>
          <p:cNvPicPr/>
          <p:nvPr/>
        </p:nvPicPr>
        <p:blipFill>
          <a:blip r:embed="rId1"/>
          <a:stretch/>
        </p:blipFill>
        <p:spPr>
          <a:xfrm>
            <a:off x="1143000" y="1500120"/>
            <a:ext cx="4429080" cy="4286160"/>
          </a:xfrm>
          <a:prstGeom prst="rect">
            <a:avLst/>
          </a:prstGeom>
          <a:ln w="0">
            <a:noFill/>
          </a:ln>
        </p:spPr>
      </p:pic>
      <p:sp>
        <p:nvSpPr>
          <p:cNvPr id="543" name="Oval 10"/>
          <p:cNvSpPr/>
          <p:nvPr/>
        </p:nvSpPr>
        <p:spPr>
          <a:xfrm rot="3173400">
            <a:off x="2539440" y="2675160"/>
            <a:ext cx="644400" cy="77796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5 CuadroTexto"/>
          <p:cNvSpPr/>
          <p:nvPr/>
        </p:nvSpPr>
        <p:spPr>
          <a:xfrm>
            <a:off x="5857920" y="1785960"/>
            <a:ext cx="29289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It is situated between the teeth and the hard palat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6 CuadroTexto"/>
          <p:cNvSpPr/>
          <p:nvPr/>
        </p:nvSpPr>
        <p:spPr>
          <a:xfrm>
            <a:off x="5857920" y="3571920"/>
            <a:ext cx="26431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It is covered with little ridg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5786280" y="5357880"/>
            <a:ext cx="280836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d/, /t/,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/n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Dental articulation"/>
          <p:cNvPicPr/>
          <p:nvPr/>
        </p:nvPicPr>
        <p:blipFill>
          <a:blip r:embed="rId1"/>
          <a:stretch/>
        </p:blipFill>
        <p:spPr>
          <a:xfrm>
            <a:off x="4286160" y="1571760"/>
            <a:ext cx="4071960" cy="3643200"/>
          </a:xfrm>
          <a:prstGeom prst="rect">
            <a:avLst/>
          </a:prstGeom>
          <a:ln w="0">
            <a:noFill/>
          </a:ln>
        </p:spPr>
      </p:pic>
      <p:sp>
        <p:nvSpPr>
          <p:cNvPr id="548" name="Rectangle 2"/>
          <p:cNvSpPr/>
          <p:nvPr/>
        </p:nvSpPr>
        <p:spPr>
          <a:xfrm>
            <a:off x="714240" y="500040"/>
            <a:ext cx="7429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40059"/>
                </a:solidFill>
                <a:latin typeface="Arial"/>
                <a:ea typeface="Arial"/>
              </a:rPr>
              <a:t> </a:t>
            </a:r>
            <a:r>
              <a:rPr b="1" lang="en-US" sz="5400" spc="-1" strike="noStrike">
                <a:solidFill>
                  <a:srgbClr val="e40059"/>
                </a:solidFill>
                <a:latin typeface="Arial"/>
                <a:ea typeface="Arial"/>
              </a:rPr>
              <a:t>The tee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3 CuadroTexto"/>
          <p:cNvSpPr/>
          <p:nvPr/>
        </p:nvSpPr>
        <p:spPr>
          <a:xfrm>
            <a:off x="500040" y="1643040"/>
            <a:ext cx="33577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They are located at the front of the mouth immediately behind the lip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5 CuadroTexto"/>
          <p:cNvSpPr/>
          <p:nvPr/>
        </p:nvSpPr>
        <p:spPr>
          <a:xfrm>
            <a:off x="571680" y="3786120"/>
            <a:ext cx="35002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For many speech sounds the tongue is in contact with the upper teeth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9"/>
          <p:cNvSpPr/>
          <p:nvPr/>
        </p:nvSpPr>
        <p:spPr>
          <a:xfrm>
            <a:off x="4143240" y="5357880"/>
            <a:ext cx="278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</a:t>
            </a:r>
            <a:r>
              <a:rPr b="1" lang="el-G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θ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, /ð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2"/>
          <p:cNvSpPr/>
          <p:nvPr/>
        </p:nvSpPr>
        <p:spPr>
          <a:xfrm>
            <a:off x="785880" y="71424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40059"/>
                </a:solidFill>
                <a:latin typeface="Arial"/>
                <a:ea typeface="Arial"/>
              </a:rPr>
              <a:t>The lip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5" descr="Bilabial articulation"/>
          <p:cNvPicPr/>
          <p:nvPr/>
        </p:nvPicPr>
        <p:blipFill>
          <a:blip r:embed="rId1"/>
          <a:stretch/>
        </p:blipFill>
        <p:spPr>
          <a:xfrm>
            <a:off x="5000760" y="1857240"/>
            <a:ext cx="3376440" cy="3429000"/>
          </a:xfrm>
          <a:prstGeom prst="rect">
            <a:avLst/>
          </a:prstGeom>
          <a:ln w="0">
            <a:noFill/>
          </a:ln>
        </p:spPr>
      </p:pic>
      <p:sp>
        <p:nvSpPr>
          <p:cNvPr id="554" name="5 CuadroTexto"/>
          <p:cNvSpPr/>
          <p:nvPr/>
        </p:nvSpPr>
        <p:spPr>
          <a:xfrm>
            <a:off x="1143000" y="1928880"/>
            <a:ext cx="36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They are very important in speech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6 CuadroTexto"/>
          <p:cNvSpPr/>
          <p:nvPr/>
        </p:nvSpPr>
        <p:spPr>
          <a:xfrm>
            <a:off x="1143000" y="3000240"/>
            <a:ext cx="3571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The can be pressed together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1428840" y="4286160"/>
            <a:ext cx="28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/b/, /p/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/m/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6" descr="Labiodental articulation"/>
          <p:cNvPicPr/>
          <p:nvPr/>
        </p:nvPicPr>
        <p:blipFill>
          <a:blip r:embed="rId1"/>
          <a:stretch/>
        </p:blipFill>
        <p:spPr>
          <a:xfrm>
            <a:off x="5143680" y="857160"/>
            <a:ext cx="3163680" cy="4143600"/>
          </a:xfrm>
          <a:prstGeom prst="rect">
            <a:avLst/>
          </a:prstGeom>
          <a:ln w="0">
            <a:noFill/>
          </a:ln>
        </p:spPr>
      </p:pic>
      <p:sp>
        <p:nvSpPr>
          <p:cNvPr id="558" name="2 CuadroTexto"/>
          <p:cNvSpPr/>
          <p:nvPr/>
        </p:nvSpPr>
        <p:spPr>
          <a:xfrm>
            <a:off x="714240" y="1143000"/>
            <a:ext cx="3786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They can be brought into contact with the tee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0"/>
          <p:cNvSpPr/>
          <p:nvPr/>
        </p:nvSpPr>
        <p:spPr>
          <a:xfrm>
            <a:off x="1214280" y="3286080"/>
            <a:ext cx="264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/f/, /v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1 Imagen" descr=""/>
          <p:cNvPicPr/>
          <p:nvPr/>
        </p:nvPicPr>
        <p:blipFill>
          <a:blip r:embed="rId1"/>
          <a:stretch/>
        </p:blipFill>
        <p:spPr>
          <a:xfrm>
            <a:off x="2052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1 Rectángulo" descr=""/>
          <p:cNvPicPr/>
          <p:nvPr/>
        </p:nvPicPr>
        <p:blipFill>
          <a:blip r:embed="rId1"/>
          <a:stretch/>
        </p:blipFill>
        <p:spPr>
          <a:xfrm>
            <a:off x="1500120" y="517680"/>
            <a:ext cx="6070680" cy="1847520"/>
          </a:xfrm>
          <a:prstGeom prst="rect">
            <a:avLst/>
          </a:prstGeom>
          <a:ln w="0">
            <a:noFill/>
          </a:ln>
        </p:spPr>
      </p:pic>
      <p:sp>
        <p:nvSpPr>
          <p:cNvPr id="507" name="2 Rectángulo"/>
          <p:cNvSpPr/>
          <p:nvPr/>
        </p:nvSpPr>
        <p:spPr>
          <a:xfrm>
            <a:off x="1285920" y="2857680"/>
            <a:ext cx="62150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The production of any speech sound involves the movement of an air strea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3 Rectángulo"/>
          <p:cNvSpPr/>
          <p:nvPr/>
        </p:nvSpPr>
        <p:spPr>
          <a:xfrm>
            <a:off x="1357200" y="4357800"/>
            <a:ext cx="6286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Constantia"/>
              </a:rPr>
              <a:t>Most speech sounds are produced by pushing the air out of the lungs through the mouth (oral) and sometimes through the nose (nasal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2"/>
          <p:cNvSpPr/>
          <p:nvPr/>
        </p:nvSpPr>
        <p:spPr>
          <a:xfrm>
            <a:off x="714240" y="42876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  <a:ea typeface="Arial"/>
              </a:rPr>
              <a:t>Vocal Tr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714240" y="1214280"/>
            <a:ext cx="80010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Constantia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The airway used in the production of speech, especially the passage above the larynx, including the pharynx, mouth, and nasal ca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5" descr="Vocal tract mesh&#10;embedded with MRI"/>
          <p:cNvPicPr/>
          <p:nvPr/>
        </p:nvPicPr>
        <p:blipFill>
          <a:blip r:embed="rId1"/>
          <a:stretch/>
        </p:blipFill>
        <p:spPr>
          <a:xfrm>
            <a:off x="1428840" y="2786040"/>
            <a:ext cx="2305080" cy="35272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7" descr="Tract mesh for&#10;vowel e"/>
          <p:cNvPicPr/>
          <p:nvPr/>
        </p:nvPicPr>
        <p:blipFill>
          <a:blip r:embed="rId2"/>
          <a:stretch/>
        </p:blipFill>
        <p:spPr>
          <a:xfrm>
            <a:off x="4500720" y="321480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285840" y="500040"/>
            <a:ext cx="8143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ticulators are divided into 2 pa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5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5111640" cy="4392720"/>
          </a:xfrm>
          <a:prstGeom prst="rect">
            <a:avLst/>
          </a:prstGeom>
          <a:ln w="0">
            <a:noFill/>
          </a:ln>
        </p:spPr>
      </p:pic>
      <p:sp>
        <p:nvSpPr>
          <p:cNvPr id="515" name="Freeform 12"/>
          <p:cNvSpPr/>
          <p:nvPr/>
        </p:nvSpPr>
        <p:spPr>
          <a:xfrm>
            <a:off x="1635120" y="2639880"/>
            <a:ext cx="2778120" cy="1095480"/>
          </a:xfrm>
          <a:custGeom>
            <a:avLst/>
            <a:gdLst>
              <a:gd name="textAreaLeft" fmla="*/ 0 w 2778120"/>
              <a:gd name="textAreaRight" fmla="*/ 2778480 w 2778120"/>
              <a:gd name="textAreaTop" fmla="*/ 0 h 1095480"/>
              <a:gd name="textAreaBottom" fmla="*/ 1095840 h 1095480"/>
            </a:gdLst>
            <a:ahLst/>
            <a:rect l="textAreaLeft" t="textAreaTop" r="textAreaRight" b="textAreaBottom"/>
            <a:pathLst>
              <a:path w="2410" h="1158">
                <a:moveTo>
                  <a:pt x="27" y="783"/>
                </a:moveTo>
                <a:cubicBezTo>
                  <a:pt x="176" y="768"/>
                  <a:pt x="327" y="741"/>
                  <a:pt x="470" y="695"/>
                </a:cubicBezTo>
                <a:cubicBezTo>
                  <a:pt x="538" y="650"/>
                  <a:pt x="615" y="632"/>
                  <a:pt x="692" y="606"/>
                </a:cubicBezTo>
                <a:cubicBezTo>
                  <a:pt x="709" y="600"/>
                  <a:pt x="720" y="584"/>
                  <a:pt x="736" y="576"/>
                </a:cubicBezTo>
                <a:cubicBezTo>
                  <a:pt x="750" y="569"/>
                  <a:pt x="766" y="566"/>
                  <a:pt x="781" y="562"/>
                </a:cubicBezTo>
                <a:cubicBezTo>
                  <a:pt x="936" y="519"/>
                  <a:pt x="1095" y="505"/>
                  <a:pt x="1253" y="473"/>
                </a:cubicBezTo>
                <a:cubicBezTo>
                  <a:pt x="1366" y="492"/>
                  <a:pt x="1480" y="496"/>
                  <a:pt x="1593" y="517"/>
                </a:cubicBezTo>
                <a:cubicBezTo>
                  <a:pt x="1608" y="527"/>
                  <a:pt x="1621" y="540"/>
                  <a:pt x="1637" y="547"/>
                </a:cubicBezTo>
                <a:cubicBezTo>
                  <a:pt x="1666" y="560"/>
                  <a:pt x="1726" y="576"/>
                  <a:pt x="1726" y="576"/>
                </a:cubicBezTo>
                <a:cubicBezTo>
                  <a:pt x="1809" y="705"/>
                  <a:pt x="1698" y="554"/>
                  <a:pt x="1800" y="635"/>
                </a:cubicBezTo>
                <a:cubicBezTo>
                  <a:pt x="1814" y="646"/>
                  <a:pt x="1816" y="667"/>
                  <a:pt x="1829" y="680"/>
                </a:cubicBezTo>
                <a:cubicBezTo>
                  <a:pt x="1841" y="693"/>
                  <a:pt x="1858" y="699"/>
                  <a:pt x="1873" y="709"/>
                </a:cubicBezTo>
                <a:cubicBezTo>
                  <a:pt x="1943" y="813"/>
                  <a:pt x="1903" y="778"/>
                  <a:pt x="1977" y="827"/>
                </a:cubicBezTo>
                <a:cubicBezTo>
                  <a:pt x="2046" y="931"/>
                  <a:pt x="2007" y="896"/>
                  <a:pt x="2080" y="946"/>
                </a:cubicBezTo>
                <a:cubicBezTo>
                  <a:pt x="2100" y="1006"/>
                  <a:pt x="2124" y="1029"/>
                  <a:pt x="2184" y="1049"/>
                </a:cubicBezTo>
                <a:cubicBezTo>
                  <a:pt x="2202" y="1107"/>
                  <a:pt x="2203" y="1158"/>
                  <a:pt x="2317" y="1079"/>
                </a:cubicBezTo>
                <a:cubicBezTo>
                  <a:pt x="2343" y="1061"/>
                  <a:pt x="2336" y="1020"/>
                  <a:pt x="2346" y="990"/>
                </a:cubicBezTo>
                <a:cubicBezTo>
                  <a:pt x="2351" y="973"/>
                  <a:pt x="2366" y="961"/>
                  <a:pt x="2376" y="946"/>
                </a:cubicBezTo>
                <a:cubicBezTo>
                  <a:pt x="2410" y="836"/>
                  <a:pt x="2410" y="734"/>
                  <a:pt x="2376" y="621"/>
                </a:cubicBezTo>
                <a:cubicBezTo>
                  <a:pt x="2367" y="592"/>
                  <a:pt x="2348" y="515"/>
                  <a:pt x="2317" y="488"/>
                </a:cubicBezTo>
                <a:cubicBezTo>
                  <a:pt x="2277" y="453"/>
                  <a:pt x="2228" y="429"/>
                  <a:pt x="2184" y="399"/>
                </a:cubicBezTo>
                <a:cubicBezTo>
                  <a:pt x="2158" y="381"/>
                  <a:pt x="2095" y="370"/>
                  <a:pt x="2095" y="370"/>
                </a:cubicBezTo>
                <a:cubicBezTo>
                  <a:pt x="2080" y="360"/>
                  <a:pt x="2067" y="347"/>
                  <a:pt x="2051" y="340"/>
                </a:cubicBezTo>
                <a:cubicBezTo>
                  <a:pt x="2022" y="327"/>
                  <a:pt x="1962" y="311"/>
                  <a:pt x="1962" y="311"/>
                </a:cubicBezTo>
                <a:cubicBezTo>
                  <a:pt x="1857" y="239"/>
                  <a:pt x="1715" y="214"/>
                  <a:pt x="1593" y="178"/>
                </a:cubicBezTo>
                <a:cubicBezTo>
                  <a:pt x="1501" y="151"/>
                  <a:pt x="1408" y="103"/>
                  <a:pt x="1312" y="89"/>
                </a:cubicBezTo>
                <a:cubicBezTo>
                  <a:pt x="1263" y="82"/>
                  <a:pt x="1214" y="80"/>
                  <a:pt x="1165" y="74"/>
                </a:cubicBezTo>
                <a:cubicBezTo>
                  <a:pt x="1093" y="65"/>
                  <a:pt x="1029" y="43"/>
                  <a:pt x="958" y="30"/>
                </a:cubicBezTo>
                <a:cubicBezTo>
                  <a:pt x="840" y="8"/>
                  <a:pt x="855" y="14"/>
                  <a:pt x="707" y="0"/>
                </a:cubicBezTo>
                <a:cubicBezTo>
                  <a:pt x="572" y="19"/>
                  <a:pt x="534" y="32"/>
                  <a:pt x="426" y="104"/>
                </a:cubicBezTo>
                <a:cubicBezTo>
                  <a:pt x="411" y="114"/>
                  <a:pt x="397" y="123"/>
                  <a:pt x="382" y="133"/>
                </a:cubicBezTo>
                <a:cubicBezTo>
                  <a:pt x="367" y="143"/>
                  <a:pt x="337" y="163"/>
                  <a:pt x="337" y="163"/>
                </a:cubicBezTo>
                <a:cubicBezTo>
                  <a:pt x="295" y="227"/>
                  <a:pt x="282" y="211"/>
                  <a:pt x="219" y="251"/>
                </a:cubicBezTo>
                <a:cubicBezTo>
                  <a:pt x="209" y="266"/>
                  <a:pt x="203" y="283"/>
                  <a:pt x="190" y="296"/>
                </a:cubicBezTo>
                <a:cubicBezTo>
                  <a:pt x="177" y="309"/>
                  <a:pt x="156" y="311"/>
                  <a:pt x="145" y="325"/>
                </a:cubicBezTo>
                <a:cubicBezTo>
                  <a:pt x="135" y="337"/>
                  <a:pt x="138" y="356"/>
                  <a:pt x="131" y="370"/>
                </a:cubicBezTo>
                <a:cubicBezTo>
                  <a:pt x="123" y="386"/>
                  <a:pt x="108" y="398"/>
                  <a:pt x="101" y="414"/>
                </a:cubicBezTo>
                <a:cubicBezTo>
                  <a:pt x="49" y="531"/>
                  <a:pt x="108" y="480"/>
                  <a:pt x="27" y="532"/>
                </a:cubicBezTo>
                <a:cubicBezTo>
                  <a:pt x="0" y="617"/>
                  <a:pt x="5" y="580"/>
                  <a:pt x="27" y="724"/>
                </a:cubicBezTo>
                <a:cubicBezTo>
                  <a:pt x="36" y="783"/>
                  <a:pt x="57" y="753"/>
                  <a:pt x="27" y="783"/>
                </a:cubicBezTo>
                <a:close/>
              </a:path>
            </a:pathLst>
          </a:custGeom>
          <a:noFill/>
          <a:ln w="73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16"/>
          <p:cNvSpPr/>
          <p:nvPr/>
        </p:nvSpPr>
        <p:spPr>
          <a:xfrm>
            <a:off x="4322880" y="1844640"/>
            <a:ext cx="3525840" cy="1081080"/>
          </a:xfrm>
          <a:prstGeom prst="wedgeEllipseCallout">
            <a:avLst>
              <a:gd name="adj1" fmla="val -59680"/>
              <a:gd name="adj2" fmla="val 7011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0059"/>
                </a:solidFill>
                <a:latin typeface="Verdana"/>
              </a:rPr>
              <a:t>Upper articul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19"/>
          <p:cNvSpPr/>
          <p:nvPr/>
        </p:nvSpPr>
        <p:spPr>
          <a:xfrm>
            <a:off x="4413240" y="3895560"/>
            <a:ext cx="3600360" cy="1368720"/>
          </a:xfrm>
          <a:prstGeom prst="wedgeEllipseCallout">
            <a:avLst>
              <a:gd name="adj1" fmla="val -75000"/>
              <a:gd name="adj2" fmla="val -50000"/>
            </a:avLst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Lower articul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18"/>
          <p:cNvSpPr/>
          <p:nvPr/>
        </p:nvSpPr>
        <p:spPr>
          <a:xfrm>
            <a:off x="1692360" y="3263760"/>
            <a:ext cx="2233440" cy="833400"/>
          </a:xfrm>
          <a:custGeom>
            <a:avLst/>
            <a:gdLst>
              <a:gd name="textAreaLeft" fmla="*/ 0 w 2233440"/>
              <a:gd name="textAreaRight" fmla="*/ 2233800 w 223344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w="1854" h="606">
                <a:moveTo>
                  <a:pt x="12" y="310"/>
                </a:moveTo>
                <a:cubicBezTo>
                  <a:pt x="45" y="215"/>
                  <a:pt x="0" y="308"/>
                  <a:pt x="71" y="251"/>
                </a:cubicBezTo>
                <a:cubicBezTo>
                  <a:pt x="85" y="240"/>
                  <a:pt x="86" y="216"/>
                  <a:pt x="101" y="207"/>
                </a:cubicBezTo>
                <a:cubicBezTo>
                  <a:pt x="113" y="199"/>
                  <a:pt x="205" y="172"/>
                  <a:pt x="234" y="163"/>
                </a:cubicBezTo>
                <a:cubicBezTo>
                  <a:pt x="414" y="104"/>
                  <a:pt x="594" y="38"/>
                  <a:pt x="780" y="0"/>
                </a:cubicBezTo>
                <a:cubicBezTo>
                  <a:pt x="854" y="5"/>
                  <a:pt x="928" y="8"/>
                  <a:pt x="1002" y="15"/>
                </a:cubicBezTo>
                <a:cubicBezTo>
                  <a:pt x="1081" y="23"/>
                  <a:pt x="1238" y="44"/>
                  <a:pt x="1238" y="44"/>
                </a:cubicBezTo>
                <a:cubicBezTo>
                  <a:pt x="1302" y="66"/>
                  <a:pt x="1366" y="83"/>
                  <a:pt x="1430" y="104"/>
                </a:cubicBezTo>
                <a:cubicBezTo>
                  <a:pt x="1445" y="109"/>
                  <a:pt x="1459" y="113"/>
                  <a:pt x="1474" y="118"/>
                </a:cubicBezTo>
                <a:cubicBezTo>
                  <a:pt x="1489" y="123"/>
                  <a:pt x="1518" y="133"/>
                  <a:pt x="1518" y="133"/>
                </a:cubicBezTo>
                <a:cubicBezTo>
                  <a:pt x="1533" y="148"/>
                  <a:pt x="1546" y="165"/>
                  <a:pt x="1563" y="177"/>
                </a:cubicBezTo>
                <a:cubicBezTo>
                  <a:pt x="1576" y="186"/>
                  <a:pt x="1595" y="182"/>
                  <a:pt x="1607" y="192"/>
                </a:cubicBezTo>
                <a:cubicBezTo>
                  <a:pt x="1703" y="268"/>
                  <a:pt x="1571" y="213"/>
                  <a:pt x="1681" y="251"/>
                </a:cubicBezTo>
                <a:cubicBezTo>
                  <a:pt x="1756" y="367"/>
                  <a:pt x="1659" y="230"/>
                  <a:pt x="1755" y="325"/>
                </a:cubicBezTo>
                <a:cubicBezTo>
                  <a:pt x="1790" y="360"/>
                  <a:pt x="1801" y="417"/>
                  <a:pt x="1829" y="458"/>
                </a:cubicBezTo>
                <a:cubicBezTo>
                  <a:pt x="1854" y="536"/>
                  <a:pt x="1853" y="560"/>
                  <a:pt x="1784" y="606"/>
                </a:cubicBezTo>
                <a:cubicBezTo>
                  <a:pt x="1522" y="582"/>
                  <a:pt x="1264" y="519"/>
                  <a:pt x="1002" y="488"/>
                </a:cubicBezTo>
                <a:cubicBezTo>
                  <a:pt x="868" y="443"/>
                  <a:pt x="1001" y="483"/>
                  <a:pt x="691" y="458"/>
                </a:cubicBezTo>
                <a:cubicBezTo>
                  <a:pt x="656" y="455"/>
                  <a:pt x="622" y="449"/>
                  <a:pt x="588" y="443"/>
                </a:cubicBezTo>
                <a:cubicBezTo>
                  <a:pt x="568" y="439"/>
                  <a:pt x="549" y="431"/>
                  <a:pt x="529" y="428"/>
                </a:cubicBezTo>
                <a:cubicBezTo>
                  <a:pt x="366" y="407"/>
                  <a:pt x="203" y="393"/>
                  <a:pt x="42" y="355"/>
                </a:cubicBezTo>
                <a:cubicBezTo>
                  <a:pt x="25" y="305"/>
                  <a:pt x="43" y="310"/>
                  <a:pt x="12" y="310"/>
                </a:cubicBezTo>
                <a:close/>
              </a:path>
            </a:pathLst>
          </a:custGeom>
          <a:noFill/>
          <a:ln w="7632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20"/>
          <p:cNvSpPr/>
          <p:nvPr/>
        </p:nvSpPr>
        <p:spPr>
          <a:xfrm>
            <a:off x="5148360" y="1325520"/>
            <a:ext cx="338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9"/>
                </a:solidFill>
                <a:latin typeface="Constantia"/>
              </a:rPr>
              <a:t>Passive articul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1"/>
          <p:cNvSpPr/>
          <p:nvPr/>
        </p:nvSpPr>
        <p:spPr>
          <a:xfrm>
            <a:off x="5148360" y="3421080"/>
            <a:ext cx="33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nstantia"/>
              </a:rPr>
              <a:t>active articul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428760" y="42876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99"/>
                </a:solidFill>
                <a:latin typeface="Arial"/>
                <a:ea typeface="Arial"/>
              </a:rPr>
              <a:t>Pharynx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19" descr="uchr_01_img0033"/>
          <p:cNvPicPr/>
          <p:nvPr/>
        </p:nvPicPr>
        <p:blipFill>
          <a:blip r:embed="rId1"/>
          <a:stretch/>
        </p:blipFill>
        <p:spPr>
          <a:xfrm>
            <a:off x="571680" y="1357200"/>
            <a:ext cx="4751280" cy="522792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24"/>
          <p:cNvSpPr/>
          <p:nvPr/>
        </p:nvSpPr>
        <p:spPr>
          <a:xfrm>
            <a:off x="3857760" y="3286080"/>
            <a:ext cx="576000" cy="2303640"/>
          </a:xfrm>
          <a:prstGeom prst="rect">
            <a:avLst/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57880" y="1785960"/>
            <a:ext cx="335736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59"/>
                </a:solidFill>
                <a:latin typeface="Constantia"/>
              </a:rPr>
              <a:t>It se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59"/>
                </a:solidFill>
                <a:latin typeface="Constantia"/>
              </a:rPr>
              <a:t>primarily as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59"/>
                </a:solidFill>
                <a:latin typeface="Constantia"/>
              </a:rPr>
              <a:t>tube conne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59"/>
                </a:solidFill>
                <a:latin typeface="Constantia"/>
              </a:rPr>
              <a:t>the larynx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59"/>
                </a:solidFill>
                <a:latin typeface="Constantia"/>
              </a:rPr>
              <a:t>the oral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59"/>
                </a:solidFill>
                <a:latin typeface="Constantia"/>
              </a:rPr>
              <a:t>nasal ca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250" autoRev="1" fill="hold"/>
                                        <p:tgtEl>
                                          <p:spTgt spid="5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6" descr="vocal tract (lower)"/>
          <p:cNvPicPr/>
          <p:nvPr/>
        </p:nvPicPr>
        <p:blipFill>
          <a:blip r:embed="rId1"/>
          <a:stretch/>
        </p:blipFill>
        <p:spPr>
          <a:xfrm>
            <a:off x="928800" y="1643040"/>
            <a:ext cx="4572000" cy="41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6" name="2 CuadroTexto"/>
          <p:cNvSpPr/>
          <p:nvPr/>
        </p:nvSpPr>
        <p:spPr>
          <a:xfrm>
            <a:off x="2071800" y="500040"/>
            <a:ext cx="414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349e"/>
                </a:solidFill>
                <a:latin typeface="Constantia"/>
              </a:rPr>
              <a:t>The Ton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3 CuadroTexto"/>
          <p:cNvSpPr/>
          <p:nvPr/>
        </p:nvSpPr>
        <p:spPr>
          <a:xfrm>
            <a:off x="5857920" y="1428840"/>
            <a:ext cx="30002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It is the most important articulato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4 CuadroTexto"/>
          <p:cNvSpPr/>
          <p:nvPr/>
        </p:nvSpPr>
        <p:spPr>
          <a:xfrm>
            <a:off x="5786280" y="3000240"/>
            <a:ext cx="2857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It can be moved to many different plac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5 CuadroTexto"/>
          <p:cNvSpPr/>
          <p:nvPr/>
        </p:nvSpPr>
        <p:spPr>
          <a:xfrm>
            <a:off x="5857920" y="4714920"/>
            <a:ext cx="2571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It is divided into 6 par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5"/>
          <p:cNvSpPr/>
          <p:nvPr/>
        </p:nvSpPr>
        <p:spPr>
          <a:xfrm>
            <a:off x="785880" y="42876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99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990099"/>
                </a:solidFill>
                <a:latin typeface="Arial"/>
                <a:ea typeface="Arial"/>
              </a:rPr>
              <a:t>(Hard ) Pal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4" descr="Palatal articulation"/>
          <p:cNvPicPr/>
          <p:nvPr/>
        </p:nvPicPr>
        <p:blipFill>
          <a:blip r:embed="rId1"/>
          <a:stretch/>
        </p:blipFill>
        <p:spPr>
          <a:xfrm>
            <a:off x="1143000" y="1714680"/>
            <a:ext cx="4071960" cy="3929040"/>
          </a:xfrm>
          <a:prstGeom prst="rect">
            <a:avLst/>
          </a:prstGeom>
          <a:ln w="0">
            <a:noFill/>
          </a:ln>
        </p:spPr>
      </p:pic>
      <p:sp>
        <p:nvSpPr>
          <p:cNvPr id="532" name="Oval 10"/>
          <p:cNvSpPr/>
          <p:nvPr/>
        </p:nvSpPr>
        <p:spPr>
          <a:xfrm rot="3173400">
            <a:off x="2859840" y="2343960"/>
            <a:ext cx="792000" cy="93672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4 CuadroTexto"/>
          <p:cNvSpPr/>
          <p:nvPr/>
        </p:nvSpPr>
        <p:spPr>
          <a:xfrm>
            <a:off x="5715000" y="2286000"/>
            <a:ext cx="3214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Also called  the “roof of the mouth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5 Rectángulo"/>
          <p:cNvSpPr/>
          <p:nvPr/>
        </p:nvSpPr>
        <p:spPr>
          <a:xfrm>
            <a:off x="5786280" y="3714840"/>
            <a:ext cx="2928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It is a curved surfaced .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6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2"/>
          <p:cNvSpPr/>
          <p:nvPr/>
        </p:nvSpPr>
        <p:spPr>
          <a:xfrm>
            <a:off x="785880" y="28584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cc"/>
                </a:solidFill>
                <a:latin typeface="Arial"/>
                <a:ea typeface="Arial"/>
              </a:rPr>
              <a:t>Velum/ Soft Palate</a:t>
            </a:r>
            <a:r>
              <a:rPr b="1" lang="en-US" sz="5000" spc="-1" strike="noStrike">
                <a:solidFill>
                  <a:srgbClr val="666666"/>
                </a:solidFill>
                <a:latin typeface="Arial"/>
                <a:ea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1295280" y="500076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nstantia"/>
              </a:rPr>
              <a:t>It is located between the pharynx and the hard palate.  It controls the airflow into the nasal cavit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8" descr="Velar"/>
          <p:cNvPicPr/>
          <p:nvPr/>
        </p:nvPicPr>
        <p:blipFill>
          <a:blip r:embed="rId1"/>
          <a:stretch/>
        </p:blipFill>
        <p:spPr>
          <a:xfrm>
            <a:off x="1357200" y="1428840"/>
            <a:ext cx="4464000" cy="3512880"/>
          </a:xfrm>
          <a:prstGeom prst="rect">
            <a:avLst/>
          </a:prstGeom>
          <a:ln w="0">
            <a:noFill/>
          </a:ln>
        </p:spPr>
      </p:pic>
      <p:sp>
        <p:nvSpPr>
          <p:cNvPr id="538" name="Oval 10"/>
          <p:cNvSpPr/>
          <p:nvPr/>
        </p:nvSpPr>
        <p:spPr>
          <a:xfrm rot="3173400">
            <a:off x="4002840" y="2058120"/>
            <a:ext cx="792000" cy="93672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6215040" y="2214720"/>
            <a:ext cx="2527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/g/</a:t>
            </a:r>
            <a:r>
              <a:rPr b="0" lang="en-US" sz="5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, </a:t>
            </a:r>
            <a:r>
              <a:rPr b="1" lang="en-US" sz="5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/k/</a:t>
            </a:r>
            <a:r>
              <a:rPr b="0" lang="en-US" sz="5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, </a:t>
            </a:r>
            <a:r>
              <a:rPr b="1" lang="en-US" sz="5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/ ŋ/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2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1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6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3"/>
          <p:cNvSpPr/>
          <p:nvPr/>
        </p:nvSpPr>
        <p:spPr>
          <a:xfrm>
            <a:off x="785880" y="642960"/>
            <a:ext cx="800100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nstantia"/>
              </a:rPr>
              <a:t>Unlike he hard palate, which is made of bone, the soft palate is made of muscle and soft tissue.</a:t>
            </a:r>
            <a:r>
              <a:rPr b="1" lang="en-US" sz="3200" spc="-1" strike="noStrike">
                <a:solidFill>
                  <a:srgbClr val="660066"/>
                </a:solidFill>
                <a:latin typeface="Constanti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When it is lowered it allows air to flow into the nasal cavity and exit through the nose.  When it is raised the air can enter the oral cavity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20:48:34Z</dcterms:created>
  <dc:creator>Administrador</dc:creator>
  <dc:description/>
  <dc:language>en-US</dc:language>
  <cp:lastModifiedBy>Carina</cp:lastModifiedBy>
  <dcterms:modified xsi:type="dcterms:W3CDTF">2013-06-01T02:37:45Z</dcterms:modified>
  <cp:revision>19</cp:revision>
  <dc:subject/>
  <dc:title>Diapositiva 1</dc:title>
</cp:coreProperties>
</file>