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77A-C9C0-41CE-91BF-B604700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1FC-64CA-4B57-9F0C-68F44F6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0128-F6D8-4682-9CA7-2EE12262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DB309-236D-48A3-82B5-B7266902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0B263-D6A9-4E69-B9B3-CE20F958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70B1C-445F-4F67-898C-4E47630E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92688-92CD-43BF-A2D0-15294EA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0789-80A6-42A6-A282-79A2487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971D1-7103-4B3E-9D2E-27B22762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9F21B-022D-4EF9-94D7-8BF6AB15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87A8E-E20D-4A40-B462-0CF79305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A9C02-1294-4458-B5C6-F38FB87A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EE5-CF4D-46B7-ABEF-9629622F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E1D0C-28C4-4E54-8D5A-83B425A7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15E7B-B5BB-422E-AAB8-DE9ED06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C26F5-938D-4379-91DA-B9B2A624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48E04-992B-41D3-A8C2-A4647EE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9B040-3C40-4773-8913-C7A25F6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A2F7B-7EE7-4D8C-ACFD-826777D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2B7F8-F967-42D1-B83E-9438708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B333A-160D-49DC-9CCB-04EA15D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378F3-1714-4800-BA79-26AF24D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62CC3-0319-4909-B6CB-4D80991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832-299C-4876-8562-81522613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6C13C-AFAF-400F-B1A4-ECE64440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240E2-CB2A-455A-B3DA-EE820D6A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511E0-25E9-472A-8AF7-198A9BE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508A8-3122-4FE6-8AEC-7891A93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3D61E-783D-47DD-96BD-87550A5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2390-D22A-4CA4-BF1B-862D786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3062-84D3-4F98-BE25-CCF835C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2FB42-FA55-43C0-98B4-7F5947C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DAAB-F17E-4AA3-8AF8-20C0403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E5284-B357-4FA5-BFB4-4531D0F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364F-11F4-4B3D-B37C-DF47829A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8E62-23E3-4C29-9EFA-9772ACF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4B0B-A85E-4718-963E-89A86B8D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6022-2F48-4369-94DD-9063345E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CBC0-1354-4645-948D-5EAD221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5AF8E-5625-49F6-8B30-E356C39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B5A4-F18F-491E-9911-352F7C3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A7E62-D516-44A0-B256-D91D2547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8FD31-0768-49E5-9FE3-C78F135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F1F69-59D9-452A-8EC4-7608CE0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9D99D-5974-406D-829F-8EBCC12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A7CD-05F7-45E1-8C2F-2E4BEB0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966DA-CB86-4FC0-89E1-968B47B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3C60B-3CB4-40CD-8B95-E3BE2E4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548FC-D5A1-4869-95D7-66049C1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D3487-83F1-4F11-8378-D826EF1C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9078E-9442-4584-B91A-6A9185DD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7ED-9449-443E-923A-E071C1D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A4E-D711-46D2-B1DA-E3543AE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52F1-B558-43F5-8EA5-3E5D2D9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0C93-1322-4198-B523-38DF980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BFDB-A8D2-4198-998B-E2BAF9E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BB9-CA0F-4EE4-98B6-CA8E113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A85-56A9-474B-ADE7-E406924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48D2-DFCD-4859-B384-986CC070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D5A-5385-4CBE-9975-9DF8629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3DA7-E0D2-46DF-A3E9-DB166561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9974-4FC6-4282-83F2-63D69E1A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9A23-09E4-4A6D-A0B5-0BF87890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B979-5686-4728-BF80-4D0A422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5D7F-0C96-4E88-828C-14E6FFFD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4164-CBD3-4487-8720-1E5A9045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EE1C-A3E3-4A13-8249-8EC4BEE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066-AE83-44FA-8B35-46F3069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A7AF-DE12-4403-8748-ED8B2F18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2A37-E29D-4336-BA3E-481B4B6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D5B7-4424-445C-ACB8-0C3DF45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0E69-12E1-4150-BBA2-69D7D54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64FC-B52D-420B-840E-DC186E1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E8E8-23AC-42BF-9841-0E162D48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7328-A2A9-4ACF-BAB3-43E87F4A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CFD5-854F-43A5-86B0-C166E99C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56624-9CBB-4EA9-8EC8-520B3A6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4374-8B25-4B85-A40D-45302313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0B8-289C-4040-8F3A-F9F7DE5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EBE4-17A0-480A-8975-ADF4947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C345-C202-425A-8688-9CFCC347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AD04-FC41-4154-BD94-E8E49E9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AAA9-5890-43D1-A85D-3225323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98EB-450F-4CE8-9F56-A53D6F8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5601-52DB-4622-8AC4-804B98F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2680-9584-462A-9929-F6908C3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4363-3A95-44C7-A1B9-CB5AB86B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06B6-393F-4D72-9B56-C3EE7818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02CD-EAD3-453C-BAA1-004D04B8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4C0-11A5-4516-BB57-E00DAEF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74CB-E2A9-4AF5-A8A6-C07EBA05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A06C-718D-4274-8AF9-B0A28D0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37A0-6C43-45C3-B6CE-95567408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27E8-BBA3-4188-9DA5-9964FDE7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0F31-ECAF-4910-BDD1-05A2479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8B06-512C-4272-94C1-CD3DB5E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9CC1-071C-4CE0-9330-BB8F838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4212-39E9-481F-B2BF-0F4AFDC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5327-482E-4A5B-9DBC-F8B7BAD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2CA4-FD92-490B-B559-24DB7579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CF7-9EDE-4B7A-BF8D-6E589AA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997A-5D93-4B29-92AD-932B7863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2833-B043-4B74-BA6B-7D31EE06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1FB6-9A55-4D8C-B6CD-BEC78CAA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234A-E5A2-4C8B-A41F-EAE579C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A07D-DF41-499B-858F-F849338C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7C137-4487-4432-B97A-4C8ED72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46B4-3850-48C1-8562-344F422D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58B7-99AC-4960-9D00-498D960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1FCD-1F07-4850-9E2D-45DF958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8871-2F11-4DDB-9E1A-5AF55E4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FCB-22BD-4AEC-BD98-7FEC341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3579-951D-4D32-8388-A538EB37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1BC0-F299-43E0-9D8A-20831A63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50860-56C4-447B-8EFB-7949B673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C7081-137A-4AAB-B105-D93EA6D7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2B03-9E2E-4E72-8B63-F8B74960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3373C-D30D-4FD9-B446-3BFD02BF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F20F-4726-4EAD-B884-6F46A3F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DC5A-E6F8-4DB8-BE18-1DD5C9D3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2923-865D-4280-A513-CD2D19C4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6641B-4C4D-4019-AB21-3BD1CC6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391-ED5C-480B-BDAA-2588FAC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64BF5-2953-4A71-AC23-EC45F25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D093-7793-4472-9390-D6B6BF5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6D1E-DB78-4F12-93D8-A559838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9336-79BA-4BED-BB25-C3045A5C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67F7-0CBD-44FB-9BA4-87F7A54B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D8A5-DCA4-4A89-97F8-8258652A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4A35-91CE-4646-BB73-EFB3C4D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2E42-A503-4198-9882-144926D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26218-FF67-41C4-8388-21573D05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46C0-7462-4369-9B1D-F1CD4EC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18E-F25A-4A0E-A19B-6CB74A83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2339B-CD3B-4B5F-B650-96DA72E2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7A7B-541A-4C9F-B531-658CCD3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76C3-6426-495D-92A7-BEC8D03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234EA-A317-47D3-8296-A1C4063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CE984-4D9A-4DA7-A5C9-48B7E74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9853-F81E-4020-AB17-1F82AD26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9C6BB-6AD3-4DEC-98AC-7F0B33B0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3D133-7C20-492D-8532-6C474CF6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1141-64E8-41B3-958A-DCDDB42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F1D46-C349-49BA-B091-000D40D1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9BB5-17F6-4F7E-8219-1DED70272CFA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FE0-1345-48BF-B2AF-E33C79B1D0FD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7E03-CE5A-4ED2-AD8B-15764348A3E8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C80-816E-44DB-9F9F-F9D65B3103B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AB7-A8B3-4533-A5EF-68B3DF8128B9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65A-6764-47F1-94E0-CB455DDD46E6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792-00AF-4374-96FA-378208B5DB44}" type="slidenum">
              <a:rPr b="0" lang="es-MX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91E-89F8-4E08-8004-7436034FA158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A42-9251-4ECB-94B3-A9D81EAE231C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48B8-85AD-4C40-AF9B-39160C818586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C91-64C8-4C56-A108-71300BEFDF04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3800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85E-6698-42F0-864F-3909BF4B01BF}" type="slidenum">
              <a:rPr b="0" lang="es-MX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2 Rectángulo" descr=""/>
          <p:cNvPicPr/>
          <p:nvPr/>
        </p:nvPicPr>
        <p:blipFill>
          <a:blip r:embed="rId1"/>
          <a:stretch/>
        </p:blipFill>
        <p:spPr>
          <a:xfrm>
            <a:off x="1212840" y="1487520"/>
            <a:ext cx="7004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785880" y="5000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e40059"/>
                </a:solidFill>
                <a:latin typeface="Arial"/>
                <a:ea typeface="Arial"/>
              </a:rPr>
              <a:t>Alveolar ri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Alveolar articulation"/>
          <p:cNvPicPr/>
          <p:nvPr/>
        </p:nvPicPr>
        <p:blipFill>
          <a:blip r:embed="rId1"/>
          <a:stretch/>
        </p:blipFill>
        <p:spPr>
          <a:xfrm>
            <a:off x="1143000" y="15001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543" name="Oval 10"/>
          <p:cNvSpPr/>
          <p:nvPr/>
        </p:nvSpPr>
        <p:spPr>
          <a:xfrm rot="3173400">
            <a:off x="2539440" y="2675160"/>
            <a:ext cx="644400" cy="7779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CuadroTexto"/>
          <p:cNvSpPr/>
          <p:nvPr/>
        </p:nvSpPr>
        <p:spPr>
          <a:xfrm>
            <a:off x="5857920" y="1785960"/>
            <a:ext cx="2928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situated between the teeth and the hard pal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5857920" y="3571920"/>
            <a:ext cx="264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covered with little rid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786280" y="5357880"/>
            <a:ext cx="2808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d/, /t/,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/n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Dental articulation"/>
          <p:cNvPicPr/>
          <p:nvPr/>
        </p:nvPicPr>
        <p:blipFill>
          <a:blip r:embed="rId1"/>
          <a:stretch/>
        </p:blipFill>
        <p:spPr>
          <a:xfrm>
            <a:off x="4286160" y="1571760"/>
            <a:ext cx="4071960" cy="36432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714240" y="500040"/>
            <a:ext cx="7429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3 CuadroTexto"/>
          <p:cNvSpPr/>
          <p:nvPr/>
        </p:nvSpPr>
        <p:spPr>
          <a:xfrm>
            <a:off x="500040" y="1643040"/>
            <a:ext cx="3357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located at the front of the mouth immediately behind the l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571680" y="3786120"/>
            <a:ext cx="3500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For many speech sounds the tongue is in contact with the upper tee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143240" y="535788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, /ð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785880" y="7142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59"/>
                </a:solidFill>
                <a:latin typeface="Arial"/>
                <a:ea typeface="Arial"/>
              </a:rPr>
              <a:t>The l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Bilabial articulation"/>
          <p:cNvPicPr/>
          <p:nvPr/>
        </p:nvPicPr>
        <p:blipFill>
          <a:blip r:embed="rId1"/>
          <a:stretch/>
        </p:blipFill>
        <p:spPr>
          <a:xfrm>
            <a:off x="5000760" y="1857240"/>
            <a:ext cx="3376440" cy="3429000"/>
          </a:xfrm>
          <a:prstGeom prst="rect">
            <a:avLst/>
          </a:prstGeom>
          <a:ln w="0">
            <a:noFill/>
          </a:ln>
        </p:spPr>
      </p:pic>
      <p:sp>
        <p:nvSpPr>
          <p:cNvPr id="554" name="5 CuadroTexto"/>
          <p:cNvSpPr/>
          <p:nvPr/>
        </p:nvSpPr>
        <p:spPr>
          <a:xfrm>
            <a:off x="1143000" y="1928880"/>
            <a:ext cx="36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are very important in spee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6 CuadroTexto"/>
          <p:cNvSpPr/>
          <p:nvPr/>
        </p:nvSpPr>
        <p:spPr>
          <a:xfrm>
            <a:off x="1143000" y="3000240"/>
            <a:ext cx="3571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 can be pressed togeth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428840" y="428616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b/, /p/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/m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Labiodental articulation"/>
          <p:cNvPicPr/>
          <p:nvPr/>
        </p:nvPicPr>
        <p:blipFill>
          <a:blip r:embed="rId1"/>
          <a:stretch/>
        </p:blipFill>
        <p:spPr>
          <a:xfrm>
            <a:off x="5143680" y="857160"/>
            <a:ext cx="3163680" cy="4143600"/>
          </a:xfrm>
          <a:prstGeom prst="rect">
            <a:avLst/>
          </a:prstGeom>
          <a:ln w="0">
            <a:noFill/>
          </a:ln>
        </p:spPr>
      </p:pic>
      <p:sp>
        <p:nvSpPr>
          <p:cNvPr id="558" name="2 CuadroTexto"/>
          <p:cNvSpPr/>
          <p:nvPr/>
        </p:nvSpPr>
        <p:spPr>
          <a:xfrm>
            <a:off x="714240" y="1143000"/>
            <a:ext cx="3786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They can be brought into contact with the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214280" y="32860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/f/, /v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1 Imagen" descr="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Rectángulo" descr=""/>
          <p:cNvPicPr/>
          <p:nvPr/>
        </p:nvPicPr>
        <p:blipFill>
          <a:blip r:embed="rId1"/>
          <a:stretch/>
        </p:blipFill>
        <p:spPr>
          <a:xfrm>
            <a:off x="1500120" y="517680"/>
            <a:ext cx="6070680" cy="1847520"/>
          </a:xfrm>
          <a:prstGeom prst="rect">
            <a:avLst/>
          </a:prstGeom>
          <a:ln w="0">
            <a:noFill/>
          </a:ln>
        </p:spPr>
      </p:pic>
      <p:sp>
        <p:nvSpPr>
          <p:cNvPr id="507" name="2 Rectángulo"/>
          <p:cNvSpPr/>
          <p:nvPr/>
        </p:nvSpPr>
        <p:spPr>
          <a:xfrm>
            <a:off x="1285920" y="2857680"/>
            <a:ext cx="6215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production of any speech sound involves the movement of an air stre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Rectángulo"/>
          <p:cNvSpPr/>
          <p:nvPr/>
        </p:nvSpPr>
        <p:spPr>
          <a:xfrm>
            <a:off x="1357200" y="4357800"/>
            <a:ext cx="6286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nstantia"/>
              </a:rPr>
              <a:t>Most speech sounds are produced by pushing the air out of the lungs through the mouth (oral) and sometimes through the nose (nas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71424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Voc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14240" y="1214280"/>
            <a:ext cx="8001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nstantia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airway used in the production of speech, especially the passage above the larynx, including the pharynx, mouth, and nasal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Vocal tract mesh&#10;embedded with MRI"/>
          <p:cNvPicPr/>
          <p:nvPr/>
        </p:nvPicPr>
        <p:blipFill>
          <a:blip r:embed="rId1"/>
          <a:stretch/>
        </p:blipFill>
        <p:spPr>
          <a:xfrm>
            <a:off x="1428840" y="2786040"/>
            <a:ext cx="2305080" cy="3527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Tract mesh for&#10;vowel e"/>
          <p:cNvPicPr/>
          <p:nvPr/>
        </p:nvPicPr>
        <p:blipFill>
          <a:blip r:embed="rId2"/>
          <a:stretch/>
        </p:blipFill>
        <p:spPr>
          <a:xfrm>
            <a:off x="4500720" y="32148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8584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ticulators are divided into 2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111640" cy="439272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12"/>
          <p:cNvSpPr/>
          <p:nvPr/>
        </p:nvSpPr>
        <p:spPr>
          <a:xfrm>
            <a:off x="1635120" y="2639880"/>
            <a:ext cx="2778120" cy="1095480"/>
          </a:xfrm>
          <a:custGeom>
            <a:avLst/>
            <a:gdLst>
              <a:gd name="textAreaLeft" fmla="*/ 0 w 2778120"/>
              <a:gd name="textAreaRight" fmla="*/ 2778480 w 27781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2410" h="1158">
                <a:moveTo>
                  <a:pt x="27" y="783"/>
                </a:moveTo>
                <a:cubicBezTo>
                  <a:pt x="176" y="768"/>
                  <a:pt x="327" y="741"/>
                  <a:pt x="470" y="695"/>
                </a:cubicBezTo>
                <a:cubicBezTo>
                  <a:pt x="538" y="650"/>
                  <a:pt x="615" y="632"/>
                  <a:pt x="692" y="606"/>
                </a:cubicBezTo>
                <a:cubicBezTo>
                  <a:pt x="709" y="600"/>
                  <a:pt x="720" y="584"/>
                  <a:pt x="736" y="576"/>
                </a:cubicBezTo>
                <a:cubicBezTo>
                  <a:pt x="750" y="569"/>
                  <a:pt x="766" y="566"/>
                  <a:pt x="781" y="562"/>
                </a:cubicBezTo>
                <a:cubicBezTo>
                  <a:pt x="936" y="519"/>
                  <a:pt x="1095" y="505"/>
                  <a:pt x="1253" y="473"/>
                </a:cubicBezTo>
                <a:cubicBezTo>
                  <a:pt x="1366" y="492"/>
                  <a:pt x="1480" y="496"/>
                  <a:pt x="1593" y="517"/>
                </a:cubicBezTo>
                <a:cubicBezTo>
                  <a:pt x="1608" y="527"/>
                  <a:pt x="1621" y="540"/>
                  <a:pt x="1637" y="547"/>
                </a:cubicBezTo>
                <a:cubicBezTo>
                  <a:pt x="1666" y="560"/>
                  <a:pt x="1726" y="576"/>
                  <a:pt x="1726" y="576"/>
                </a:cubicBezTo>
                <a:cubicBezTo>
                  <a:pt x="1809" y="705"/>
                  <a:pt x="1698" y="554"/>
                  <a:pt x="1800" y="635"/>
                </a:cubicBezTo>
                <a:cubicBezTo>
                  <a:pt x="1814" y="646"/>
                  <a:pt x="1816" y="667"/>
                  <a:pt x="1829" y="680"/>
                </a:cubicBezTo>
                <a:cubicBezTo>
                  <a:pt x="1841" y="693"/>
                  <a:pt x="1858" y="699"/>
                  <a:pt x="1873" y="709"/>
                </a:cubicBezTo>
                <a:cubicBezTo>
                  <a:pt x="1943" y="813"/>
                  <a:pt x="1903" y="778"/>
                  <a:pt x="1977" y="827"/>
                </a:cubicBezTo>
                <a:cubicBezTo>
                  <a:pt x="2046" y="931"/>
                  <a:pt x="2007" y="896"/>
                  <a:pt x="2080" y="946"/>
                </a:cubicBezTo>
                <a:cubicBezTo>
                  <a:pt x="2100" y="1006"/>
                  <a:pt x="2124" y="1029"/>
                  <a:pt x="2184" y="1049"/>
                </a:cubicBezTo>
                <a:cubicBezTo>
                  <a:pt x="2202" y="1107"/>
                  <a:pt x="2203" y="1158"/>
                  <a:pt x="2317" y="1079"/>
                </a:cubicBezTo>
                <a:cubicBezTo>
                  <a:pt x="2343" y="1061"/>
                  <a:pt x="2336" y="1020"/>
                  <a:pt x="2346" y="990"/>
                </a:cubicBezTo>
                <a:cubicBezTo>
                  <a:pt x="2351" y="973"/>
                  <a:pt x="2366" y="961"/>
                  <a:pt x="2376" y="946"/>
                </a:cubicBezTo>
                <a:cubicBezTo>
                  <a:pt x="2410" y="836"/>
                  <a:pt x="2410" y="734"/>
                  <a:pt x="2376" y="621"/>
                </a:cubicBezTo>
                <a:cubicBezTo>
                  <a:pt x="2367" y="592"/>
                  <a:pt x="2348" y="515"/>
                  <a:pt x="2317" y="488"/>
                </a:cubicBezTo>
                <a:cubicBezTo>
                  <a:pt x="2277" y="453"/>
                  <a:pt x="2228" y="429"/>
                  <a:pt x="2184" y="399"/>
                </a:cubicBezTo>
                <a:cubicBezTo>
                  <a:pt x="2158" y="381"/>
                  <a:pt x="2095" y="370"/>
                  <a:pt x="2095" y="370"/>
                </a:cubicBezTo>
                <a:cubicBezTo>
                  <a:pt x="2080" y="360"/>
                  <a:pt x="2067" y="347"/>
                  <a:pt x="2051" y="340"/>
                </a:cubicBezTo>
                <a:cubicBezTo>
                  <a:pt x="2022" y="327"/>
                  <a:pt x="1962" y="311"/>
                  <a:pt x="1962" y="311"/>
                </a:cubicBezTo>
                <a:cubicBezTo>
                  <a:pt x="1857" y="239"/>
                  <a:pt x="1715" y="214"/>
                  <a:pt x="1593" y="178"/>
                </a:cubicBezTo>
                <a:cubicBezTo>
                  <a:pt x="1501" y="151"/>
                  <a:pt x="1408" y="103"/>
                  <a:pt x="1312" y="89"/>
                </a:cubicBezTo>
                <a:cubicBezTo>
                  <a:pt x="1263" y="82"/>
                  <a:pt x="1214" y="80"/>
                  <a:pt x="1165" y="74"/>
                </a:cubicBezTo>
                <a:cubicBezTo>
                  <a:pt x="1093" y="65"/>
                  <a:pt x="1029" y="43"/>
                  <a:pt x="958" y="30"/>
                </a:cubicBezTo>
                <a:cubicBezTo>
                  <a:pt x="840" y="8"/>
                  <a:pt x="855" y="14"/>
                  <a:pt x="707" y="0"/>
                </a:cubicBezTo>
                <a:cubicBezTo>
                  <a:pt x="572" y="19"/>
                  <a:pt x="534" y="32"/>
                  <a:pt x="426" y="104"/>
                </a:cubicBezTo>
                <a:cubicBezTo>
                  <a:pt x="411" y="114"/>
                  <a:pt x="397" y="123"/>
                  <a:pt x="382" y="133"/>
                </a:cubicBezTo>
                <a:cubicBezTo>
                  <a:pt x="367" y="143"/>
                  <a:pt x="337" y="163"/>
                  <a:pt x="337" y="163"/>
                </a:cubicBezTo>
                <a:cubicBezTo>
                  <a:pt x="295" y="227"/>
                  <a:pt x="282" y="211"/>
                  <a:pt x="219" y="251"/>
                </a:cubicBezTo>
                <a:cubicBezTo>
                  <a:pt x="209" y="266"/>
                  <a:pt x="203" y="283"/>
                  <a:pt x="190" y="296"/>
                </a:cubicBezTo>
                <a:cubicBezTo>
                  <a:pt x="177" y="309"/>
                  <a:pt x="156" y="311"/>
                  <a:pt x="145" y="325"/>
                </a:cubicBezTo>
                <a:cubicBezTo>
                  <a:pt x="135" y="337"/>
                  <a:pt x="138" y="356"/>
                  <a:pt x="131" y="370"/>
                </a:cubicBezTo>
                <a:cubicBezTo>
                  <a:pt x="123" y="386"/>
                  <a:pt x="108" y="398"/>
                  <a:pt x="101" y="414"/>
                </a:cubicBezTo>
                <a:cubicBezTo>
                  <a:pt x="49" y="531"/>
                  <a:pt x="108" y="480"/>
                  <a:pt x="27" y="532"/>
                </a:cubicBezTo>
                <a:cubicBezTo>
                  <a:pt x="0" y="617"/>
                  <a:pt x="5" y="580"/>
                  <a:pt x="27" y="724"/>
                </a:cubicBezTo>
                <a:cubicBezTo>
                  <a:pt x="36" y="783"/>
                  <a:pt x="57" y="753"/>
                  <a:pt x="27" y="783"/>
                </a:cubicBezTo>
                <a:close/>
              </a:path>
            </a:pathLst>
          </a:custGeom>
          <a:noFill/>
          <a:ln w="73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6"/>
          <p:cNvSpPr/>
          <p:nvPr/>
        </p:nvSpPr>
        <p:spPr>
          <a:xfrm>
            <a:off x="4322880" y="1844640"/>
            <a:ext cx="3525840" cy="1081080"/>
          </a:xfrm>
          <a:prstGeom prst="wedgeEllipseCallout">
            <a:avLst>
              <a:gd name="adj1" fmla="val -59680"/>
              <a:gd name="adj2" fmla="val 701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Verdana"/>
              </a:rPr>
              <a:t>Upper arti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9"/>
          <p:cNvSpPr/>
          <p:nvPr/>
        </p:nvSpPr>
        <p:spPr>
          <a:xfrm>
            <a:off x="4413240" y="3895560"/>
            <a:ext cx="3600360" cy="1368720"/>
          </a:xfrm>
          <a:prstGeom prst="wedgeEllipseCallout">
            <a:avLst>
              <a:gd name="adj1" fmla="val -75000"/>
              <a:gd name="adj2" fmla="val -50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wer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1692360" y="3263760"/>
            <a:ext cx="2233440" cy="83340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854" h="606">
                <a:moveTo>
                  <a:pt x="12" y="310"/>
                </a:moveTo>
                <a:cubicBezTo>
                  <a:pt x="45" y="215"/>
                  <a:pt x="0" y="308"/>
                  <a:pt x="71" y="251"/>
                </a:cubicBezTo>
                <a:cubicBezTo>
                  <a:pt x="85" y="240"/>
                  <a:pt x="86" y="216"/>
                  <a:pt x="101" y="207"/>
                </a:cubicBezTo>
                <a:cubicBezTo>
                  <a:pt x="113" y="199"/>
                  <a:pt x="205" y="172"/>
                  <a:pt x="234" y="163"/>
                </a:cubicBezTo>
                <a:cubicBezTo>
                  <a:pt x="414" y="104"/>
                  <a:pt x="594" y="38"/>
                  <a:pt x="780" y="0"/>
                </a:cubicBezTo>
                <a:cubicBezTo>
                  <a:pt x="854" y="5"/>
                  <a:pt x="928" y="8"/>
                  <a:pt x="1002" y="15"/>
                </a:cubicBezTo>
                <a:cubicBezTo>
                  <a:pt x="1081" y="23"/>
                  <a:pt x="1238" y="44"/>
                  <a:pt x="1238" y="44"/>
                </a:cubicBezTo>
                <a:cubicBezTo>
                  <a:pt x="1302" y="66"/>
                  <a:pt x="1366" y="83"/>
                  <a:pt x="1430" y="104"/>
                </a:cubicBezTo>
                <a:cubicBezTo>
                  <a:pt x="1445" y="109"/>
                  <a:pt x="1459" y="113"/>
                  <a:pt x="1474" y="118"/>
                </a:cubicBezTo>
                <a:cubicBezTo>
                  <a:pt x="1489" y="123"/>
                  <a:pt x="1518" y="133"/>
                  <a:pt x="1518" y="133"/>
                </a:cubicBezTo>
                <a:cubicBezTo>
                  <a:pt x="1533" y="148"/>
                  <a:pt x="1546" y="165"/>
                  <a:pt x="1563" y="177"/>
                </a:cubicBezTo>
                <a:cubicBezTo>
                  <a:pt x="1576" y="186"/>
                  <a:pt x="1595" y="182"/>
                  <a:pt x="1607" y="192"/>
                </a:cubicBezTo>
                <a:cubicBezTo>
                  <a:pt x="1703" y="268"/>
                  <a:pt x="1571" y="213"/>
                  <a:pt x="1681" y="251"/>
                </a:cubicBezTo>
                <a:cubicBezTo>
                  <a:pt x="1756" y="367"/>
                  <a:pt x="1659" y="230"/>
                  <a:pt x="1755" y="325"/>
                </a:cubicBezTo>
                <a:cubicBezTo>
                  <a:pt x="1790" y="360"/>
                  <a:pt x="1801" y="417"/>
                  <a:pt x="1829" y="458"/>
                </a:cubicBezTo>
                <a:cubicBezTo>
                  <a:pt x="1854" y="536"/>
                  <a:pt x="1853" y="560"/>
                  <a:pt x="1784" y="606"/>
                </a:cubicBezTo>
                <a:cubicBezTo>
                  <a:pt x="1522" y="582"/>
                  <a:pt x="1264" y="519"/>
                  <a:pt x="1002" y="488"/>
                </a:cubicBezTo>
                <a:cubicBezTo>
                  <a:pt x="868" y="443"/>
                  <a:pt x="1001" y="483"/>
                  <a:pt x="691" y="458"/>
                </a:cubicBezTo>
                <a:cubicBezTo>
                  <a:pt x="656" y="455"/>
                  <a:pt x="622" y="449"/>
                  <a:pt x="588" y="443"/>
                </a:cubicBezTo>
                <a:cubicBezTo>
                  <a:pt x="568" y="439"/>
                  <a:pt x="549" y="431"/>
                  <a:pt x="529" y="428"/>
                </a:cubicBezTo>
                <a:cubicBezTo>
                  <a:pt x="366" y="407"/>
                  <a:pt x="203" y="393"/>
                  <a:pt x="42" y="355"/>
                </a:cubicBezTo>
                <a:cubicBezTo>
                  <a:pt x="25" y="305"/>
                  <a:pt x="43" y="310"/>
                  <a:pt x="12" y="310"/>
                </a:cubicBezTo>
                <a:close/>
              </a:path>
            </a:pathLst>
          </a:custGeom>
          <a:noFill/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5148360" y="132552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9"/>
                </a:solidFill>
                <a:latin typeface="Constantia"/>
              </a:rPr>
              <a:t>Pass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148360" y="34210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nstantia"/>
              </a:rPr>
              <a:t>active arti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42876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Arial"/>
              </a:rPr>
              <a:t>Pharynx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9" descr="uchr_01_img0033"/>
          <p:cNvPicPr/>
          <p:nvPr/>
        </p:nvPicPr>
        <p:blipFill>
          <a:blip r:embed="rId1"/>
          <a:stretch/>
        </p:blipFill>
        <p:spPr>
          <a:xfrm>
            <a:off x="571680" y="1357200"/>
            <a:ext cx="4751280" cy="522792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4"/>
          <p:cNvSpPr/>
          <p:nvPr/>
        </p:nvSpPr>
        <p:spPr>
          <a:xfrm>
            <a:off x="3857760" y="3286080"/>
            <a:ext cx="576000" cy="2303640"/>
          </a:xfrm>
          <a:prstGeom prst="rect">
            <a:avLst/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5788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It s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primarily 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ube 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larynx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the or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9"/>
                </a:solidFill>
                <a:latin typeface="Constantia"/>
              </a:rPr>
              <a:t>nasal ca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vocal tract (lower)"/>
          <p:cNvPicPr/>
          <p:nvPr/>
        </p:nvPicPr>
        <p:blipFill>
          <a:blip r:embed="rId1"/>
          <a:stretch/>
        </p:blipFill>
        <p:spPr>
          <a:xfrm>
            <a:off x="928800" y="1643040"/>
            <a:ext cx="457200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2 CuadroTexto"/>
          <p:cNvSpPr/>
          <p:nvPr/>
        </p:nvSpPr>
        <p:spPr>
          <a:xfrm>
            <a:off x="2071800" y="50004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49e"/>
                </a:solidFill>
                <a:latin typeface="Constantia"/>
              </a:rPr>
              <a:t>The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3 CuadroTexto"/>
          <p:cNvSpPr/>
          <p:nvPr/>
        </p:nvSpPr>
        <p:spPr>
          <a:xfrm>
            <a:off x="5857920" y="1428840"/>
            <a:ext cx="3000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the most important articulat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4 CuadroTexto"/>
          <p:cNvSpPr/>
          <p:nvPr/>
        </p:nvSpPr>
        <p:spPr>
          <a:xfrm>
            <a:off x="5786280" y="3000240"/>
            <a:ext cx="285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can be moved to many different pla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5 CuadroTexto"/>
          <p:cNvSpPr/>
          <p:nvPr/>
        </p:nvSpPr>
        <p:spPr>
          <a:xfrm>
            <a:off x="5857920" y="4714920"/>
            <a:ext cx="257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divided into 6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85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Arial"/>
                <a:ea typeface="Arial"/>
              </a:rPr>
              <a:t>(Hard ) Pa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alatal articulation"/>
          <p:cNvPicPr/>
          <p:nvPr/>
        </p:nvPicPr>
        <p:blipFill>
          <a:blip r:embed="rId1"/>
          <a:stretch/>
        </p:blipFill>
        <p:spPr>
          <a:xfrm>
            <a:off x="1143000" y="171468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32" name="Oval 10"/>
          <p:cNvSpPr/>
          <p:nvPr/>
        </p:nvSpPr>
        <p:spPr>
          <a:xfrm rot="3173400">
            <a:off x="2859840" y="234396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4 CuadroTexto"/>
          <p:cNvSpPr/>
          <p:nvPr/>
        </p:nvSpPr>
        <p:spPr>
          <a:xfrm>
            <a:off x="5715000" y="2286000"/>
            <a:ext cx="32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lso called  the “roof of the mou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 Rectángulo"/>
          <p:cNvSpPr/>
          <p:nvPr/>
        </p:nvSpPr>
        <p:spPr>
          <a:xfrm>
            <a:off x="5786280" y="3714840"/>
            <a:ext cx="292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It is a curved surfaced .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8588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cc"/>
                </a:solidFill>
                <a:latin typeface="Arial"/>
                <a:ea typeface="Arial"/>
              </a:rPr>
              <a:t>Velum/ Soft Palate</a:t>
            </a:r>
            <a:r>
              <a:rPr b="1" lang="en-US" sz="5000" spc="-1" strike="noStrike">
                <a:solidFill>
                  <a:srgbClr val="666666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50007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nstantia"/>
              </a:rPr>
              <a:t>It is located between the pharynx and the hard palate.  It controls the airflow into the nasal cav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Velar"/>
          <p:cNvPicPr/>
          <p:nvPr/>
        </p:nvPicPr>
        <p:blipFill>
          <a:blip r:embed="rId1"/>
          <a:stretch/>
        </p:blipFill>
        <p:spPr>
          <a:xfrm>
            <a:off x="1357200" y="1428840"/>
            <a:ext cx="4464000" cy="3512880"/>
          </a:xfrm>
          <a:prstGeom prst="rect">
            <a:avLst/>
          </a:prstGeom>
          <a:ln w="0">
            <a:noFill/>
          </a:ln>
        </p:spPr>
      </p:pic>
      <p:sp>
        <p:nvSpPr>
          <p:cNvPr id="538" name="Oval 10"/>
          <p:cNvSpPr/>
          <p:nvPr/>
        </p:nvSpPr>
        <p:spPr>
          <a:xfrm rot="3173400">
            <a:off x="4002840" y="2058120"/>
            <a:ext cx="792000" cy="9367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6215040" y="2214720"/>
            <a:ext cx="252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g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k/</a:t>
            </a:r>
            <a:r>
              <a:rPr b="0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 ŋ/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785880" y="642960"/>
            <a:ext cx="8001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nstantia"/>
              </a:rPr>
              <a:t>Unlike he hard palate, which is made of bone, the soft palate is made of muscle and soft tissue.</a:t>
            </a:r>
            <a:r>
              <a:rPr b="1" lang="en-US" sz="3200" spc="-1" strike="noStrike">
                <a:solidFill>
                  <a:srgbClr val="660066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en it is lowered it allows air to flow into the nasal cavity and exit through the nose.  When it is raised the air can enter the oral cavity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48:34Z</dcterms:created>
  <dc:creator>Administrador</dc:creator>
  <dc:description/>
  <dc:language>en-US</dc:language>
  <cp:lastModifiedBy>Carina</cp:lastModifiedBy>
  <dcterms:modified xsi:type="dcterms:W3CDTF">2013-06-01T02:37:45Z</dcterms:modified>
  <cp:revision>19</cp:revision>
  <dc:subject/>
  <dc:title>Diapositiva 1</dc:title>
</cp:coreProperties>
</file>